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111.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84.xml.rels" ContentType="application/vnd.openxmlformats-package.relationships+xml"/>
  <Override PartName="/ppt/notesSlides/_rels/notesSlide72.xml.rels" ContentType="application/vnd.openxmlformats-package.relationships+xml"/>
  <Override PartName="/ppt/notesSlides/_rels/notesSlide87.xml.rels" ContentType="application/vnd.openxmlformats-package.relationships+xml"/>
  <Override PartName="/ppt/notesSlides/_rels/notesSlide85.xml.rels" ContentType="application/vnd.openxmlformats-package.relationships+xml"/>
  <Override PartName="/ppt/notesSlides/_rels/notesSlide81.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111.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89.xml" ContentType="application/vnd.openxmlformats-officedocument.presentationml.notesSlide+xml"/>
  <Override PartName="/ppt/notesSlides/notesSlide29.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73.xml" ContentType="application/vnd.openxmlformats-officedocument.presentationml.notesSlide+xml"/>
  <Override PartName="/ppt/notesSlides/notesSlide84.xml" ContentType="application/vnd.openxmlformats-officedocument.presentationml.notesSlide+xml"/>
  <Override PartName="/ppt/notesSlides/notesSlide72.xml" ContentType="application/vnd.openxmlformats-officedocument.presentationml.notesSlide+xml"/>
  <Override PartName="/ppt/notesSlides/notesSlide83.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20.wmf" ContentType="image/x-wmf"/>
  <Override PartName="/ppt/media/image4.png" ContentType="image/png"/>
  <Override PartName="/ppt/media/image5.png" ContentType="image/png"/>
  <Override PartName="/ppt/media/image7.png" ContentType="image/png"/>
  <Override PartName="/ppt/media/image1.jpeg" ContentType="image/jpeg"/>
  <Override PartName="/ppt/media/image21.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5.png" ContentType="image/png"/>
  <Override PartName="/ppt/media/image6.png" ContentType="image/png"/>
  <Override PartName="/ppt/media/image2.png" ContentType="image/pn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0ED45-861D-44FD-B4C7-D87EC24AF1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t>
            </a: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271D-15D3-4AA5-B8C7-11445B5C29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FA7B-44DD-468B-8716-E4CD37FB9F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C66D7CA-6E00-4981-8112-7BAEC75BA914}"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C179802-F1BC-455B-9EC2-AD2DAD982497}"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86D20853-8E3D-49C6-B5A1-E324827AD81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79F95F8-4CDA-42B9-B2E3-E211985075E2}"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898E254-CFDC-42D8-9462-FEF65F568E1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3FDBA2E6-EE02-4B9B-A862-1AC0A645CBC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3C85EA4-0C0B-4D9F-8BBF-CC28C32D2CD3}"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4DE8D0E5-5307-4AB6-A60B-74F37CCE791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93E86057-470C-46EE-AD06-2162480AD568}"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ACB7E6C-109F-4910-B614-F1618D534A9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C160A361-9D92-4F82-A401-67958E01661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110A8DD7-D734-42CE-AD6B-C6C3EFC9DB5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34B2088-DD79-417D-8CE9-7A2E46551390}"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BFF0AC7D-1612-44F5-A6B1-ACA1F56FBBB1}"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E03AEE40-D511-4C6A-B4F6-FFF6F1AF9AAA}"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66B67E2F-29E6-4FB7-A349-81FBB31975B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DF176F50-D8DC-4D02-B663-9C8BC3ACF6DC}"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28EECF82-4CFB-4EE1-935F-88920D9F1F8E}"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fld id="{00593757-4476-4D01-8B6C-6B1B43E62345}" type="slidenum">
              <a:rPr b="0" lang="en-IN" sz="1200" spc="-1" strike="noStrike">
                <a:solidFill>
                  <a:srgbClr val="000000"/>
                </a:solidFill>
                <a:latin typeface="Times New Roman"/>
                <a:ea typeface="Microsoft YaHei"/>
              </a:rPr>
              <a:t>&lt;number&gt;</a:t>
            </a:fld>
            <a:endParaRPr b="0" lang="en-US" sz="1200" spc="-1" strike="noStrike">
              <a:solidFill>
                <a:srgbClr val="000000"/>
              </a:solidFill>
              <a:latin typeface="Calibri"/>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8EB4E-926B-4652-A47A-1F6037097F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74461-67A4-447D-AEF7-3D4A8F987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239B8-A151-498E-B2ED-EAE836227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C0D1-F7D7-42EE-9257-FCE107480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FA37-CF1A-4798-9BA2-6C2D96116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741E-83AC-4D79-8779-A1D666A73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003B3-9279-4E3B-950A-18629AD8F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E0442-2974-4592-810F-BF2899346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EDC2F-B53D-4319-8FFA-76AC4DD7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0469C-ECC9-41A0-B18E-7ED67E4D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D4DF1-C9BE-4587-A64E-17CCB2983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FB672-58BB-4A63-9783-9B092D69E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3147-4E0B-4D70-81C2-67B277E51D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 result for training images"/>
          <p:cNvPicPr/>
          <p:nvPr/>
        </p:nvPicPr>
        <p:blipFill>
          <a:blip r:embed="rId1"/>
          <a:stretch/>
        </p:blipFill>
        <p:spPr>
          <a:xfrm>
            <a:off x="87480" y="210960"/>
            <a:ext cx="9029520" cy="6570720"/>
          </a:xfrm>
          <a:prstGeom prst="rect">
            <a:avLst/>
          </a:prstGeom>
          <a:ln w="0">
            <a:noFill/>
          </a:ln>
        </p:spPr>
      </p:pic>
      <p:sp>
        <p:nvSpPr>
          <p:cNvPr id="49" name="Rectangle 1"/>
          <p:cNvSpPr/>
          <p:nvPr/>
        </p:nvSpPr>
        <p:spPr>
          <a:xfrm>
            <a:off x="1981080" y="-76320"/>
            <a:ext cx="5791320" cy="1447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PRE-PROMOTION TRAINING</a:t>
            </a:r>
            <a:endParaRPr b="0" lang="en-US" sz="3600" spc="-1" strike="noStrike">
              <a:solidFill>
                <a:srgbClr val="000000"/>
              </a:solidFill>
              <a:latin typeface="Calibri"/>
            </a:endParaRPr>
          </a:p>
        </p:txBody>
      </p:sp>
      <p:sp>
        <p:nvSpPr>
          <p:cNvPr id="50" name="TextBox 2"/>
          <p:cNvSpPr/>
          <p:nvPr/>
        </p:nvSpPr>
        <p:spPr>
          <a:xfrm>
            <a:off x="2819520" y="5675400"/>
            <a:ext cx="5638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PROMOTION EXERCISE 2024-25 FOR OFFICERS  – EXAM DATE 17/12/2023</a:t>
            </a:r>
            <a:endParaRPr b="0" lang="en-US" sz="2800" spc="-1" strike="noStrike">
              <a:solidFill>
                <a:srgbClr val="000000"/>
              </a:solidFill>
              <a:latin typeface="Calibri"/>
            </a:endParaRPr>
          </a:p>
        </p:txBody>
      </p:sp>
      <p:sp>
        <p:nvSpPr>
          <p:cNvPr id="51" name="TextBox 2"/>
          <p:cNvSpPr/>
          <p:nvPr/>
        </p:nvSpPr>
        <p:spPr>
          <a:xfrm>
            <a:off x="7086600" y="6553080"/>
            <a:ext cx="1905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Arial"/>
              </a:rPr>
              <a:t>Updated 21/11/2023</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28240" y="152280"/>
            <a:ext cx="8458200" cy="6477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ETMENT (TO ENCOURAGE, APPROVE, SUPPORT) OF OR ATTEMPT OF ABETMENT OF ANY ACT WHICH AMOUNTS TO MISCONDUC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ING OF COMPUTER PASSWOR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WRONGFUL/ILLEGAL ACTIVITY COMMITTED THROUGH THE USE OF COMPUTER / INTERNET AND/OR VIOLATION OF PROVISIONS OF THE INFORMATION TECHNOLOGY ACT, 2000 / IT POLICY OF THE COMPAN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LGING OF ANY SEXUAL HARASSMENT OF WOMEN AT WORKPLAC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ESSION OF OR CONSUMING OF OR BEING UNDER THE INFLUENCE OF NARCOTICS OR DRUGS IN THE PREMISES OF THE COMPAN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veyance Scheme 2011</a:t>
            </a:r>
            <a:endParaRPr b="0" lang="en-US" sz="3600" spc="-1" strike="noStrike">
              <a:solidFill>
                <a:srgbClr val="000000"/>
              </a:solidFill>
              <a:latin typeface="Calibri"/>
            </a:endParaRPr>
          </a:p>
        </p:txBody>
      </p:sp>
      <p:pic>
        <p:nvPicPr>
          <p:cNvPr id="240" name="Picture 2" descr=""/>
          <p:cNvPicPr/>
          <p:nvPr/>
        </p:nvPicPr>
        <p:blipFill>
          <a:blip r:embed="rId1"/>
          <a:stretch/>
        </p:blipFill>
        <p:spPr>
          <a:xfrm>
            <a:off x="304920" y="844560"/>
            <a:ext cx="8610480" cy="60134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57200" y="-360"/>
            <a:ext cx="8229600" cy="612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2" name="Picture 2" descr=""/>
          <p:cNvPicPr/>
          <p:nvPr/>
        </p:nvPicPr>
        <p:blipFill>
          <a:blip r:embed="rId1"/>
          <a:stretch/>
        </p:blipFill>
        <p:spPr>
          <a:xfrm>
            <a:off x="838080" y="0"/>
            <a:ext cx="7315200" cy="3373560"/>
          </a:xfrm>
          <a:prstGeom prst="rect">
            <a:avLst/>
          </a:prstGeom>
          <a:ln w="0">
            <a:noFill/>
          </a:ln>
        </p:spPr>
      </p:pic>
      <p:pic>
        <p:nvPicPr>
          <p:cNvPr id="243" name="Picture 3" descr=""/>
          <p:cNvPicPr/>
          <p:nvPr/>
        </p:nvPicPr>
        <p:blipFill>
          <a:blip r:embed="rId2"/>
          <a:stretch/>
        </p:blipFill>
        <p:spPr>
          <a:xfrm>
            <a:off x="228600" y="3581280"/>
            <a:ext cx="8458200" cy="303876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6840" y="151920"/>
            <a:ext cx="8458200" cy="6324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 Tyre/tube replacement – 40 months or 32000 whichever is earli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5" name="Picture 2" descr=""/>
          <p:cNvPicPr/>
          <p:nvPr/>
        </p:nvPicPr>
        <p:blipFill>
          <a:blip r:embed="rId1"/>
          <a:stretch/>
        </p:blipFill>
        <p:spPr>
          <a:xfrm>
            <a:off x="457200" y="533520"/>
            <a:ext cx="8229600" cy="47242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228600"/>
            <a:ext cx="8229600" cy="58212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ief Ca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in 3 yea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all Officers including probationers/promote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ount is inclusive of G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47" name=""/>
          <p:cNvGraphicFramePr/>
          <p:nvPr/>
        </p:nvGraphicFramePr>
        <p:xfrm>
          <a:off x="1295280" y="914400"/>
          <a:ext cx="6096240" cy="1854360"/>
        </p:xfrm>
        <a:graphic>
          <a:graphicData uri="http://schemas.openxmlformats.org/drawingml/2006/table">
            <a:tbl>
              <a:tblPr/>
              <a:tblGrid>
                <a:gridCol w="3048120"/>
                <a:gridCol w="30481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mou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VI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5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V and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4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I and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3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oup Mediclaim Policy</a:t>
            </a:r>
            <a:endParaRPr b="0" lang="en-US" sz="4400" spc="-1" strike="noStrike">
              <a:solidFill>
                <a:srgbClr val="000000"/>
              </a:solidFill>
              <a:latin typeface="Calibri"/>
            </a:endParaRPr>
          </a:p>
        </p:txBody>
      </p:sp>
      <p:sp>
        <p:nvSpPr>
          <p:cNvPr id="249" name=""/>
          <p:cNvSpPr txBox="1"/>
          <p:nvPr/>
        </p:nvSpPr>
        <p:spPr>
          <a:xfrm>
            <a:off x="457200" y="762120"/>
            <a:ext cx="8229600" cy="536400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y insured person – Service / retired / spouse of deceased employee / spouse of retired and deceased employee</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emed primary insured person – Existing or retired whole time Director or spouse of retired and deceased whole time Director</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mit upto Rs.50 lakhs (For Deemed primary insured person – No limit)</a:t>
            </a:r>
            <a:endParaRPr b="0" lang="en-US" sz="22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f 01/10/2017 independent parents and independent parents-in-law are also covered</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PA to be included to decide on the eligibility sum insured</a:t>
            </a:r>
            <a:endParaRPr b="0" lang="en-US" sz="2200" spc="-1" strike="noStrike">
              <a:solidFill>
                <a:srgbClr val="000000"/>
              </a:solidFill>
              <a:latin typeface="Calibri"/>
            </a:endParaRPr>
          </a:p>
        </p:txBody>
      </p:sp>
      <p:graphicFrame>
        <p:nvGraphicFramePr>
          <p:cNvPr id="250" name=""/>
          <p:cNvGraphicFramePr/>
          <p:nvPr/>
        </p:nvGraphicFramePr>
        <p:xfrm>
          <a:off x="1523880" y="3048120"/>
          <a:ext cx="6096240" cy="1752480"/>
        </p:xfrm>
        <a:graphic>
          <a:graphicData uri="http://schemas.openxmlformats.org/drawingml/2006/table">
            <a:tbl>
              <a:tblPr/>
              <a:tblGrid>
                <a:gridCol w="3048120"/>
                <a:gridCol w="30481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 Insured (1/4/1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152280"/>
            <a:ext cx="8229600" cy="59738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ase in sum insured slab – once in 3 years (except promotion, new additions like marriage, etc to next higher slab).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oom Rent cap – 1% of SI upto Rs.10 lakhs and 0.50% beyond Rs.10 lakhs where CCA is payable (Rs.15000 max) &amp; 0.75% of SI upto Rs.10 lakhs and 0.50% beyond Rs.10 lakhs for other cities (Rs.12500 max)</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bulance charges – Rs.5000 per hospitalisatio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nity benefits – A Class city – Rs.50000 and others Rs.40000</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section – A Class city – Rs.1 lakh and others Rs.65000</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e medical check up – Once in every block of 4 claim free years – 1% of SI subject to a maximum of Rs.5000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miciliary treatment – 20% subject to a maximum of Rs.50000 except Oral Chemotherapy and Peritoneal Dialysis which is 50% of SI subject to a maximum of Rs.5 lakhs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nity benefits will be available to all the beneficiaries without any waiting period</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mium rates of independent children of retired employees and their family members will be the same as applicable to serving employees</a:t>
            </a:r>
            <a:endParaRPr b="0" lang="en-US" sz="20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Content Placeholder 2"/>
          <p:cNvSpPr/>
          <p:nvPr/>
        </p:nvSpPr>
        <p:spPr>
          <a:xfrm>
            <a:off x="457200" y="152280"/>
            <a:ext cx="8229600" cy="6172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Content Placeholder 2"/>
          <p:cNvSpPr/>
          <p:nvPr/>
        </p:nvSpPr>
        <p:spPr>
          <a:xfrm>
            <a:off x="609480" y="304920"/>
            <a:ext cx="8229600" cy="6172200"/>
          </a:xfrm>
          <a:prstGeom prst="rect">
            <a:avLst/>
          </a:prstGeom>
          <a:noFill/>
          <a:ln w="0">
            <a:noFill/>
          </a:ln>
        </p:spPr>
        <p:style>
          <a:lnRef idx="0"/>
          <a:fillRef idx="0"/>
          <a:effectRef idx="0"/>
          <a:fontRef idx="minor"/>
        </p:style>
        <p:txBody>
          <a:bodyPr lIns="90000" rIns="90000" tIns="46800" bIns="46800" anchor="t">
            <a:normAutofit fontScale="95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crease in the optional sum insured to the immediately lower slab is permitted only in the event of decrease in family size on account of death / exit of an insured family member from the scheme with effect from the next renewal date following the date of the even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if there is a revision in premium, member may be allowed for decreasing the optional sum insured to any lower slab but not lower than the eligible sum insured.</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amount for purchase of pulse oxymeter upto Rs.2000/- if primary / deemed primary member or family members diagonised covid positive and treated at home on submission of claim form along with corona positive report and prescription from treating Doctor and invoice. (Per family one pulse oxymeter)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Reimbursement of cost of vaccination upto Rs.250/- per dose subject to production of original receipt.(settlement at Operating Office itself and not under GMI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
          <p:cNvPicPr/>
          <p:nvPr/>
        </p:nvPicPr>
        <p:blipFill>
          <a:blip r:embed="rId1"/>
          <a:stretch/>
        </p:blipFill>
        <p:spPr>
          <a:xfrm>
            <a:off x="266760" y="152280"/>
            <a:ext cx="8610480" cy="647712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
          <p:cNvPicPr/>
          <p:nvPr/>
        </p:nvPicPr>
        <p:blipFill>
          <a:blip r:embed="rId1"/>
          <a:stretch/>
        </p:blipFill>
        <p:spPr>
          <a:xfrm>
            <a:off x="57240" y="380880"/>
            <a:ext cx="9029520" cy="38102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181080" y="1209600"/>
            <a:ext cx="8781840" cy="443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228600"/>
            <a:ext cx="8229600" cy="58975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5 – Scope of an employee’s service (24 X 7)</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6 – Employees not to seek outside employment (incl. honorary)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7 – Part-time work (after Office hours)</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8 – Obligation to maintain secrecy – during service or after retirement or resignation or discharg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9 – Evidence before committee or any other authority with previous sanction of the Competent Authority</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0 – Prohibition against participation in politics and contesting for election by filing for nomination</a:t>
            </a: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i="1" lang="en-US" sz="2400" spc="-1" strike="noStrike">
                <a:solidFill>
                  <a:srgbClr val="002060"/>
                </a:solidFill>
                <a:latin typeface="Calibri"/>
              </a:rPr>
              <a:t>The display by an employee on his personal vehicle or residence, of any electoral symbol shall amount to using his influence in connection with an election within the meaning of any sub-rule.</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1 – Participation in demonstr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57200" y="151920"/>
            <a:ext cx="8229600" cy="61722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rtability – Allowed for dependent / independent family members with any of the PSGIC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verage for newly recruited employees – Can enroll at the time of joining by giving in writing in regard to dependent / independent family members within 60 days from the date of joining</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limit to enroll newly married spouse and his/her dependent / independent parents-in-law – within 60 days from the date of marriag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riction of selection covering parents / parents-in-law – If both the parents / parents-in-law are alive enrolling either of the parents / parents-in-law shall not be allowed</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ting lower sum insured after the death of employee/retired employee is allowed</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ment of child returned from abroad – Allowed onc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 premium borne by Company upto eligible SI for S/S, FTS, PTS wef 01/04/2018</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MP for insured persons (including family members) covered under Staff GMC – 33.33% discount</a:t>
            </a:r>
            <a:endParaRPr b="0" lang="en-US" sz="20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TPA – Health Insurance TPA of India Ltd</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685800"/>
            <a:ext cx="8229600" cy="5440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inuance of coverage for Staff GMC for the following insured members even after the death of  employee and/or spouse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e of death of an insured member covered under staff GMC policy and there is no claim in respect of such insured member during the policy period, pro-rata period for the period from the month following the death of the insured member may be stopped from the salary in case of serving employees and in respect of retired employee the refund from the month following the death of the insured member may be giv</a:t>
            </a:r>
            <a:r>
              <a:rPr b="0" lang="en-US" sz="2400" spc="-1" strike="noStrike">
                <a:solidFill>
                  <a:srgbClr val="000000"/>
                </a:solidFill>
                <a:latin typeface="Calibri"/>
              </a:rPr>
              <a:t>en (wef 01/11/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59" name="Picture 3" descr=""/>
          <p:cNvPicPr/>
          <p:nvPr/>
        </p:nvPicPr>
        <p:blipFill>
          <a:blip r:embed="rId1"/>
          <a:stretch/>
        </p:blipFill>
        <p:spPr>
          <a:xfrm>
            <a:off x="322200" y="2136600"/>
            <a:ext cx="8593200" cy="22068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28240" y="228600"/>
            <a:ext cx="8458200" cy="64771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ssionate grounds appointment</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Date : 01/11/2014 (death of employee on or after 01/11/2014)</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verage – To dependent family member of employee died while in service (including employee death by suicide) or retired on medical grounds due to incapacitation before reaching the age of 55 yea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family member – spouse/wholly dependent son/wholly dependent daughter/wholly dependent brother or sister for unmarried employee</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ent Authority – CMD</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s – Clerical or Sub-Staff cadres only</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xations – Upper age limit relaxed.  Age eligibility is based  on date of application. Spouse no upper age limit. Non-spouse – max 35 years or as per recruitment rules.  Lower age – Not below 18 yrs</a:t>
            </a:r>
            <a:endParaRPr b="0" lang="en-US" sz="2400" spc="-1" strike="noStrike">
              <a:solidFill>
                <a:srgbClr val="000000"/>
              </a:solidFill>
              <a:latin typeface="Calibri"/>
            </a:endParaRPr>
          </a:p>
          <a:p>
            <a:pPr marL="325800" indent="-3258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me limit – 5 years from the date of dea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228240" y="228600"/>
            <a:ext cx="84582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dow appointment on compassionate grounds  upon re-marriage will be allowed to continue in service even after re-marria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sing employee – Cases of missing employee are also covered, after lapse of 2 years from the date of missing provided FIR is lodged, non- traceable.  This will not apply to an employee who has less than two years to retire or suspected to have committed fraud, joined terrorist organisation or gone abro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re there is earning member – Spouse earning more than gross, application will be rejected. Otherwise he/she should resign the present job.  Spouse earning less than gross, application from other dependents can be consider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um 5% of vacancies falling  under direct recruitment quo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51920" y="152280"/>
            <a:ext cx="853452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ducation Advan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 – 01/04/2016</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 minimum 5 years of service (Ex-servicemen – 3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ance for covering expenses like admission fee (excluding capitation fee), tuition fee, non-refundable charges payable to hostel perused in India / Abroa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ntum and frequency of advance – Maximum Rs.10 lakhs for each child and for maximum of 2 children during entire servic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ance may be granted in installment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ance for maximum two courses can be granted per chil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 of loan is permitte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est – 8% for boys or 7.8% for girls student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ayment – 10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vance shall not be granted to suspended / Extraordinary LOP/disciplinary action is contempl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04560" y="152280"/>
            <a:ext cx="8381880" cy="64771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IS COVER (introduced in the year 1997)</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wef  01/12/2023 (Renewal date 1</a:t>
            </a:r>
            <a:r>
              <a:rPr b="0" lang="en-US" sz="2400" spc="-1" strike="noStrike" baseline="30000">
                <a:solidFill>
                  <a:srgbClr val="000000"/>
                </a:solidFill>
                <a:latin typeface="Calibri"/>
              </a:rPr>
              <a:t>st</a:t>
            </a:r>
            <a:r>
              <a:rPr b="0" lang="en-US" sz="2400" spc="-1" strike="noStrike">
                <a:solidFill>
                  <a:srgbClr val="000000"/>
                </a:solidFill>
                <a:latin typeface="Calibri"/>
              </a:rPr>
              <a:t> December ever year)</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 NPS employees are also eligible to opt for GTIS as one time option.</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s who are not covered under Pension Scheme / NPS are not eligible to opt.</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cement dated for newly joined 01/09/2019.  </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s who join on or after 23/07/2019 are compulsorily eligible.  Existing members cannot opt out of the Scheme.</a:t>
            </a: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64" name=""/>
          <p:cNvGraphicFramePr/>
          <p:nvPr/>
        </p:nvGraphicFramePr>
        <p:xfrm>
          <a:off x="1523880" y="1073160"/>
          <a:ext cx="5715000" cy="2835360"/>
        </p:xfrm>
        <a:graphic>
          <a:graphicData uri="http://schemas.openxmlformats.org/drawingml/2006/table">
            <a:tbl>
              <a:tblPr/>
              <a:tblGrid>
                <a:gridCol w="1905120"/>
                <a:gridCol w="1905120"/>
                <a:gridCol w="190476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sic Pay Range (Revis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76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 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7 BONU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GIBILITY-MINIMUM 30 DAYS WORKED IN A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DA LESS THAN 21,000- NORMAL SALARY.IF LOP-REDUCED SALARY –NOT ELIG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YMENT:BASIC+DA –MAX:7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LOP PROPORTIONATELY REDU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6 MEDICAL CHECK UP</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ALE IV &amp;AB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00 PER CHECK UP WEF 01/01/201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TO 50 YEARS-ON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55 YRS-TWO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VE 55-TWO TI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1 GRATUITY</a:t>
            </a:r>
            <a:endParaRPr b="0" lang="en-US" sz="4400" spc="-1" strike="noStrike">
              <a:solidFill>
                <a:srgbClr val="000000"/>
              </a:solidFill>
              <a:latin typeface="Calibri"/>
            </a:endParaRPr>
          </a:p>
        </p:txBody>
      </p:sp>
      <p:sp>
        <p:nvSpPr>
          <p:cNvPr id="270" name=""/>
          <p:cNvSpPr txBox="1"/>
          <p:nvPr/>
        </p:nvSpPr>
        <p:spPr>
          <a:xfrm>
            <a:off x="380880" y="1371600"/>
            <a:ext cx="8305920" cy="4191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tuity shall be payable on termination of employment of an employee after he h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dered to the Company, continuous service for not less than five yea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superannuation 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voluntary retirement/resignation 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death or disablement due to accident or diseases 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termination (other than Vigilance) of service by the Corporation or the Compan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2 GRATUITY</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f completed years of service  &amp; Rate of gratuity for each year  of service (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to 11 years  50% of Basic Pay last drawn</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 years 6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 years 7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 years 80%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 years or more 100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ervice up to 30 years, maximum 15 months Basic Pay is payable. Additional gratuity @ ½ month’s Basic Pay is payable for each completed year of service beyond 30 yea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152280"/>
            <a:ext cx="8229600" cy="597384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2 – Connection with Press and Radio – prior sanction to be obtained by the employee, except contribution is occasional, purely literary, artistic or scientific character, statement made by Office-bearers of registered trade union</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3 – Acceptance of gifts – gift shall include free transport, boarding, lodging, etc – gifts from relatives – Rs.10000/-, personal friends – Rs.7000/- and others – Rs.5000/-(if from same person gift received is more than once in the same year, should inform Competent Authority) if aggregate value exceeds Rs.5000/-</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ule 14 – Private trading – Employee or his relatives shall not act as an insurance agent (Relatives means spouse, dependent children/dependent step children residing with the employee or not)</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5 – Speculation in stocks / shares – Frequent purchase and sale of stock, shares, securities or other investment shall be deemed to be speculation within the meaning of this rul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4 GRATUITY(clerical)</a:t>
            </a:r>
            <a:endParaRPr b="0" lang="en-US" sz="4400" spc="-1" strike="noStrike">
              <a:solidFill>
                <a:srgbClr val="000000"/>
              </a:solidFill>
              <a:latin typeface="Calibri"/>
            </a:endParaRPr>
          </a:p>
        </p:txBody>
      </p:sp>
      <p:sp>
        <p:nvSpPr>
          <p:cNvPr id="274" name=""/>
          <p:cNvSpPr txBox="1"/>
          <p:nvPr/>
        </p:nvSpPr>
        <p:spPr>
          <a:xfrm>
            <a:off x="457200" y="129528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alibri"/>
              </a:rPr>
              <a:t>Under Act:</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ages </a:t>
            </a:r>
            <a:r>
              <a:rPr b="1" i="1" lang="en-US" sz="2800" spc="-1" strike="noStrike">
                <a:solidFill>
                  <a:srgbClr val="000000"/>
                </a:solidFill>
                <a:latin typeface="Calibri"/>
              </a:rPr>
              <a:t>X 15 /26  X No. of years of service</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Under scheme</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Basic * 15 years (for first 15 years of service)</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asic/2 * years in excess of 15 year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 = 1+2 = not exceeding 20 months basic</a:t>
            </a:r>
            <a:endParaRPr b="0" lang="en-US" sz="2800" spc="-1" strike="noStrike">
              <a:solidFill>
                <a:srgbClr val="000000"/>
              </a:solidFill>
              <a:latin typeface="Calibri"/>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294840" indent="-294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 Only commuted value of pension (for pension optees) or Company’s contribution to PF / Gratuity shall be withheld by the Company till vacation of the company’s accommodation by the employees/family. </a:t>
            </a:r>
            <a:endParaRPr b="0" lang="en-US" sz="2400" spc="-1" strike="noStrike">
              <a:solidFill>
                <a:srgbClr val="000000"/>
              </a:solidFill>
              <a:latin typeface="Calibri"/>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31.3 GRATUITY -officers</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Under scheme</a:t>
            </a:r>
            <a:r>
              <a:rPr b="0" lang="en-US" sz="1800" spc="-1" strike="noStrike">
                <a:solidFill>
                  <a:srgbClr val="000000"/>
                </a:solidFill>
                <a:latin typeface="Calibri"/>
              </a:rPr>
              <a:t>: (a) GRATUITY AMOUNT FOR SERVICE UP TO 30 YEA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Basic Pay </a:t>
            </a:r>
            <a:r>
              <a:rPr b="1" i="1" lang="en-US" sz="1800" spc="-1" strike="noStrike">
                <a:solidFill>
                  <a:srgbClr val="000000"/>
                </a:solidFill>
                <a:latin typeface="Calibri"/>
              </a:rPr>
              <a:t>X No. of yrs of service X  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max. 15 yea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 GRATUITY AMOUNT FOR SERVICE OVER 30 YEA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Basic Pay/2    </a:t>
            </a:r>
            <a:r>
              <a:rPr b="1" i="1" lang="en-US" sz="1800" spc="-1" strike="noStrike">
                <a:solidFill>
                  <a:srgbClr val="000000"/>
                </a:solidFill>
                <a:latin typeface="Calibri"/>
              </a:rPr>
              <a:t>X Years in excess of 30 year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tuity Amount as per Rationalization Scheme : a + b</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 means Rate of Gratuity as given above (For service more than 15 years, limi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umber of years to 15)</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Calibri"/>
              </a:rPr>
              <a:t>Under Ac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ages </a:t>
            </a:r>
            <a:r>
              <a:rPr b="1" i="1" lang="en-US" sz="1800" spc="-1" strike="noStrike">
                <a:solidFill>
                  <a:srgbClr val="000000"/>
                </a:solidFill>
                <a:latin typeface="Calibri"/>
              </a:rPr>
              <a:t>X 15 /26  X No. of years of servic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Max. 20.00 lacs under Gratutiy Ac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der Scheme – Basic – basic +  FPA</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der Act   -        wages – basic +FPA + 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ENSION</a:t>
            </a:r>
            <a:endParaRPr b="0" lang="en-US" sz="4400" spc="-1" strike="noStrike">
              <a:solidFill>
                <a:srgbClr val="000000"/>
              </a:solidFill>
              <a:latin typeface="Calibri"/>
            </a:endParaRPr>
          </a:p>
        </p:txBody>
      </p:sp>
      <p:sp>
        <p:nvSpPr>
          <p:cNvPr id="278" name="Content Placeholder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ypes of Pension –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Superannuation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Pension on voluntary retirement</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valid Pension – Min 10 years, retires on account of any bodily or mental infirmity which permanently incapacitates </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passionate Allowance – Employee dismissed or removed from service shall forfeit his pension, provided Competent Authority considers deserving sanction compassionate allowance not exceeding two-thirds of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amily Pension</a:t>
            </a:r>
            <a:endParaRPr b="0" lang="en-US" sz="2000" spc="-1" strike="noStrike">
              <a:solidFill>
                <a:srgbClr val="000000"/>
              </a:solidFill>
              <a:latin typeface="Calibri"/>
            </a:endParaRPr>
          </a:p>
          <a:p>
            <a:pPr>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utation upto 1/3</a:t>
            </a:r>
            <a:r>
              <a:rPr b="1" lang="en-US" sz="2000" spc="-1" strike="noStrike" baseline="30000">
                <a:solidFill>
                  <a:srgbClr val="000000"/>
                </a:solidFill>
                <a:latin typeface="Calibri"/>
                <a:ea typeface="Arial"/>
              </a:rPr>
              <a:t>rd</a:t>
            </a:r>
            <a:r>
              <a:rPr b="1" lang="en-US" sz="2000" spc="-1" strike="noStrike">
                <a:solidFill>
                  <a:srgbClr val="000000"/>
                </a:solidFill>
                <a:latin typeface="Calibri"/>
                <a:ea typeface="Arial"/>
              </a:rPr>
              <a:t> is applicable for all except family pension and Provisional Pension)</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INIMUM PENSION – Rs.4070 (retired and/or died on or after 01/08/201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nsion Calculation</a:t>
            </a:r>
            <a:endParaRPr b="0" lang="en-US" sz="4400" spc="-1" strike="noStrike">
              <a:solidFill>
                <a:srgbClr val="000000"/>
              </a:solidFill>
              <a:latin typeface="Calibri"/>
            </a:endParaRPr>
          </a:p>
        </p:txBody>
      </p:sp>
      <p:graphicFrame>
        <p:nvGraphicFramePr>
          <p:cNvPr id="280" name=""/>
          <p:cNvGraphicFramePr/>
          <p:nvPr/>
        </p:nvGraphicFramePr>
        <p:xfrm>
          <a:off x="76320" y="1219320"/>
          <a:ext cx="4572000" cy="5427720"/>
        </p:xfrm>
        <a:graphic>
          <a:graphicData uri="http://schemas.openxmlformats.org/drawingml/2006/table">
            <a:tbl>
              <a:tblPr/>
              <a:tblGrid>
                <a:gridCol w="546120"/>
                <a:gridCol w="912600"/>
                <a:gridCol w="1006560"/>
                <a:gridCol w="639720"/>
                <a:gridCol w="784080"/>
                <a:gridCol w="682920"/>
              </a:tblGrid>
              <a:tr h="210960">
                <a:tc gridSpan="5">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ED INDIA INSURANCE COMPANY LIMITED</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gridSpan="5">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NSION DEPARTMENT HEAD OFFICE CHENNAI</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3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XXXXXXXX</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MP.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999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E OF BIR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08/196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E OF JOINING</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11/198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SENT OFFIC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FICE COD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FFICE NAM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AD OFFICE</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P DETAILS</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E OF EXI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08/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DE OF EXI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TIREMENT</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8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NO</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NTH</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SIC PAY</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PA</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ug-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ul-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u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y-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p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ar-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eb-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096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Jan-2021</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186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6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c-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ov-202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8909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745</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084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09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0560</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1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VERAGE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93056</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281" name=""/>
          <p:cNvGraphicFramePr/>
          <p:nvPr/>
        </p:nvGraphicFramePr>
        <p:xfrm>
          <a:off x="4876920" y="1276200"/>
          <a:ext cx="4114800" cy="5276880"/>
        </p:xfrm>
        <a:graphic>
          <a:graphicData uri="http://schemas.openxmlformats.org/drawingml/2006/table">
            <a:tbl>
              <a:tblPr/>
              <a:tblGrid>
                <a:gridCol w="490320"/>
                <a:gridCol w="822600"/>
                <a:gridCol w="906120"/>
                <a:gridCol w="574920"/>
                <a:gridCol w="706320"/>
                <a:gridCol w="614520"/>
              </a:tblGrid>
              <a:tr h="238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 years 9 Months 11 day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8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9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83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pleted servic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4</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or pension calcul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9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3056</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8320">
                <a:tc gridSpan="3">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 OF AVERAGE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52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9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UTAT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YES</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9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GE OF COMM</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 1/3</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509.3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50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68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ISED BASIC PAY</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019.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83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08</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7595.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ENSION</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614.0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UTATION D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08/202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83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UTATION AG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0</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94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UTATION RATE</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81</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13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UTATION AMOUNT</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25719</a:t>
                      </a:r>
                      <a:endParaRPr b="0" lang="en-US" sz="11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685800"/>
            <a:ext cx="8229600" cy="544032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Automatic Pension coverage – Those joined on or after 28/06/1995 to 31/03/2010</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Currently employees who were appointed before 28/06/1995 can join pension</a:t>
            </a: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Employees who went on VRS under TSR Scheme, SVRS 2004, SVRP 2003, Golden Gate are also eligible to join provided they have put at least 20 years of qualifying service (notional benefit of max 5 years will not be given)</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  </a:t>
            </a:r>
            <a:r>
              <a:rPr b="1" lang="en-IN" sz="2400" spc="-1" strike="noStrike">
                <a:solidFill>
                  <a:srgbClr val="000000"/>
                </a:solidFill>
                <a:latin typeface="Calibri"/>
              </a:rPr>
              <a:t>Category          Effective Date of Pension / Family Pen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Pension – w.e.f. the date following the date o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Retir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                     Pension – w.e.f. 23.04.2019</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I, IV               Family Pension – w.e.f. 23.04.2019</a:t>
            </a: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1986 retirees – Medical Relief</a:t>
            </a:r>
            <a:endParaRPr b="0" lang="en-US" sz="4400" spc="-1" strike="noStrike">
              <a:solidFill>
                <a:srgbClr val="000000"/>
              </a:solidFill>
              <a:latin typeface="Calibri"/>
            </a:endParaRPr>
          </a:p>
        </p:txBody>
      </p:sp>
      <p:sp>
        <p:nvSpPr>
          <p:cNvPr id="284" name=""/>
          <p:cNvSpPr txBox="1"/>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f  01/08/2022 – ex-gratia payable is and medical relief wef 01/01/202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85" name="Picture 3" descr=""/>
          <p:cNvPicPr/>
          <p:nvPr/>
        </p:nvPicPr>
        <p:blipFill>
          <a:blip r:embed="rId1"/>
          <a:stretch/>
        </p:blipFill>
        <p:spPr>
          <a:xfrm>
            <a:off x="1447920" y="2655720"/>
            <a:ext cx="6858000" cy="1001880"/>
          </a:xfrm>
          <a:prstGeom prst="rect">
            <a:avLst/>
          </a:prstGeom>
          <a:ln w="0">
            <a:noFill/>
          </a:ln>
        </p:spPr>
      </p:pic>
      <p:pic>
        <p:nvPicPr>
          <p:cNvPr id="286" name="Picture 4" descr=""/>
          <p:cNvPicPr/>
          <p:nvPr/>
        </p:nvPicPr>
        <p:blipFill>
          <a:blip r:embed="rId2"/>
          <a:stretch/>
        </p:blipFill>
        <p:spPr>
          <a:xfrm>
            <a:off x="1143000" y="4267080"/>
            <a:ext cx="7848720" cy="10670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QUERIES, IF 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600200"/>
            <a:ext cx="8229600" cy="4952880"/>
          </a:xfrm>
          <a:prstGeom prst="rect">
            <a:avLst/>
          </a:prstGeom>
          <a:noFill/>
          <a:ln w="0">
            <a:noFill/>
          </a:ln>
        </p:spPr>
        <p:txBody>
          <a:bodyPr anchor="t">
            <a:norm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THANK YOU </a:t>
            </a: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mp; </a:t>
            </a: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LL THE BEST </a:t>
            </a:r>
            <a:endParaRPr b="0" lang="en-US" sz="48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FOR THE EXAM</a:t>
            </a:r>
            <a:endParaRPr b="0" lang="en-US" sz="48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B BHASKAR</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CHIEF MANAGER</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c"/>
                </a:solidFill>
                <a:latin typeface="Calibri"/>
              </a:rPr>
              <a:t>HO – HEALTH DEP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51920" y="228600"/>
            <a:ext cx="853452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6 – Restriction on borrowing and investment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e46c0a"/>
                </a:solidFill>
                <a:latin typeface="Calibri"/>
              </a:rPr>
              <a:t>16 A – Submission of property returns – immovable property exceeds 2 months basic salary – Annual return before 30</a:t>
            </a:r>
            <a:r>
              <a:rPr b="0" i="1" lang="en-US" sz="2400" spc="-1" strike="noStrike" baseline="30000">
                <a:solidFill>
                  <a:srgbClr val="e46c0a"/>
                </a:solidFill>
                <a:latin typeface="Calibri"/>
              </a:rPr>
              <a:t>th</a:t>
            </a:r>
            <a:r>
              <a:rPr b="0" i="1" lang="en-US" sz="2400" spc="-1" strike="noStrike">
                <a:solidFill>
                  <a:srgbClr val="e46c0a"/>
                </a:solidFill>
                <a:latin typeface="Calibri"/>
              </a:rPr>
              <a:t> April –Transactions above 2 months basic salary to be reported within 30 days to the competent authori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7 – Employees in debt – Employees who is in debt shall furnish to the competent authority half yearly statement – 31</a:t>
            </a:r>
            <a:r>
              <a:rPr b="0" lang="en-US" sz="2400" spc="-1" strike="noStrike" baseline="30000">
                <a:solidFill>
                  <a:srgbClr val="000000"/>
                </a:solidFill>
                <a:latin typeface="Calibri"/>
              </a:rPr>
              <a:t>st</a:t>
            </a:r>
            <a:r>
              <a:rPr b="0" lang="en-US" sz="2400" spc="-1" strike="noStrike">
                <a:solidFill>
                  <a:srgbClr val="000000"/>
                </a:solidFill>
                <a:latin typeface="Calibri"/>
              </a:rPr>
              <a:t>  March and 30</a:t>
            </a:r>
            <a:r>
              <a:rPr b="0" lang="en-US" sz="2400" spc="-1" strike="noStrike" baseline="30000">
                <a:solidFill>
                  <a:srgbClr val="000000"/>
                </a:solidFill>
                <a:latin typeface="Calibri"/>
              </a:rPr>
              <a:t>th</a:t>
            </a:r>
            <a:r>
              <a:rPr b="0" lang="en-US" sz="2400" spc="-1" strike="noStrike">
                <a:solidFill>
                  <a:srgbClr val="000000"/>
                </a:solidFill>
                <a:latin typeface="Calibri"/>
              </a:rPr>
              <a:t> September about his posi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i="1" lang="en-US" sz="2400" spc="-1" strike="noStrike">
                <a:solidFill>
                  <a:srgbClr val="e46c0a"/>
                </a:solidFill>
                <a:latin typeface="Calibri"/>
              </a:rPr>
              <a:t>Meaning of debt – Total liabilities exceeds 6 months basic salar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8 – Employees not to be absent from duty without permission or be late in attendance – one day’s CL without prior sanction is allowe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19 – Absence from station – No employee shall absent himself from his station overnight without prior sanc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51920" y="152280"/>
            <a:ext cx="8534520" cy="6477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0 – Suspension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ppropriate Authority may place an employee under suspens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 DISCIPLINARY PROCEEDINGS AGAINST HIM I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TEMPLATED OR IS PEND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2) CRIMINAL OFFENCE IS UNDER INVESTIGATION OR TRI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3) DETAINED IN CUSTODY WHETHER ON  A CRIMIN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ARGE OR OTHERWISE FOR A PERIOD </a:t>
            </a:r>
            <a:r>
              <a:rPr b="1" lang="en-US" sz="2400" spc="-1" strike="noStrike" u="sng">
                <a:solidFill>
                  <a:srgbClr val="000000"/>
                </a:solidFill>
                <a:uFillTx/>
                <a:latin typeface="Calibri"/>
              </a:rPr>
              <a:t>EXCEEDING 48</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u="sng">
                <a:solidFill>
                  <a:srgbClr val="000000"/>
                </a:solidFill>
                <a:uFillTx/>
                <a:latin typeface="Calibri"/>
              </a:rPr>
              <a:t> </a:t>
            </a:r>
            <a:r>
              <a:rPr b="1" lang="en-US" sz="2400" spc="-1" strike="noStrike" u="sng">
                <a:solidFill>
                  <a:srgbClr val="000000"/>
                </a:solidFill>
                <a:uFillTx/>
                <a:latin typeface="Calibri"/>
              </a:rPr>
              <a:t>HOURS</a:t>
            </a:r>
            <a:r>
              <a:rPr b="0" lang="en-US" sz="2400" spc="-1" strike="noStrike">
                <a:solidFill>
                  <a:srgbClr val="000000"/>
                </a:solidFill>
                <a:latin typeface="Calibri"/>
              </a:rPr>
              <a:t> –DEEMED SUSPENSION FROM THE DATE OF</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TENTIO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suspension – once in three months for appropriate decisions or payment of appropriate subsistence allowance</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52280" y="-360"/>
            <a:ext cx="8686800" cy="6705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1 – Subsistence Allowance – 50% of monthly / gross emoluments (comprising of BP, DA, HRA, CCA, HSA, QP, personal pay, special pay and deputation allowance) drawn on the date immediately prior to the date on which the employee is suspended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vary the subsistence allowance after 6 month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creased to 75% if the reasons for delay is not attributed to the</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ployee (employee shall have no right to claim increased SA)</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duced to 25% if the reason is directly attributed to the</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ployee</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 subsistence Allowance during period of detention by the police</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Rule 20 &amp; 21 – Appropriate Authority shall mean an authority competent to impose major penalty</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46c0a"/>
                </a:solidFill>
                <a:latin typeface="Calibri"/>
              </a:rPr>
              <a:t>Eg – Appropriate Authority for Asst., RC, SS or equivalent cadres – Head of Office concerned or department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28240" y="228600"/>
            <a:ext cx="84582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ULSORY DEDUCTIONS – INCOME TAX, COMPENSATION FOR THE USE OF ACCOMMODATION ALLOTTED, REPAYMENT OF LOANS AND ADVANCE TAKEN FROM THE COMPANY, MEDICAL BENEFIT INSURANCE SCHEME PREMIU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UNTARY DEDUCTIONS – LIC PREMIUM, COOPERATIVE SOCIETY, REFUND OF LOAN TAKEN FROM PF</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DUDUCTIONS – TOWARDS PF, AMOUNT DUE UNDER COURT ATTACHMENT, RECOVERY OF ANY LOSS WHICH EMPLOYEE MAY HAVE CAUSED TO THE COMPAN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52280" y="75960"/>
            <a:ext cx="8763120" cy="6553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2 – Treatment of period of suspension – Any period of absence which has not been treated as period spent on duty or on leave shall not count for service for any purpose but will not constitute as break in service – Refund of subsistence allowance by the employee cannot be compell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3 – Penalties –  will be issued by Disciplinary Authorit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inor Penalties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Censu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 Withholding of one or more increments for a specified perio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 Recovery of the whole or part of any pecuniary loss caused to the Company by negligence or breach of orders from pay or such other amount as may be due to him.</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 Reduction to a lower stage in the time-scale for a period not exceeding three years without cumulative eff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5960" y="0"/>
            <a:ext cx="8762760" cy="685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jor Penal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 Withholding of one or more increments permanentl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 Reduction to a lower service or post or to a lower time-scale or to a lower stage in a time-scal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 Compulsory retiremen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 Removal from service which shall not be a disqualification for future employmen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 Dismissal which shall ordinarily be a disqualification for future employm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llowing shall not amount  as penalty – withholding of increment for unsatisfactory work, stoppage of an employee at the efficiency bar in a time-scale, non-promotion, reversion to a lower grade or post, of an employee officiating in a higher grade or post, reversion on probation, termination of employee appointed on probation, temporary capacity,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4 - Disciplinary Authority – Higher authority to the competent authori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52280" y="152280"/>
            <a:ext cx="8763120" cy="655344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5 – Procedure for imposing major penalties – only after inquiry</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quiring Authority – Retired officer or any public servant (always one step higher than the Presenting Officer) </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ployee should submit his reply within 15 days (or extension of another 15 days – Max 45 days) on receipt of articles of charges (list of charges leveled against him in writing by the disciplinary authority, inquiry will not be concluded even if the employee is superannuated but to be completed within 3 months from the date of superannuation). </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ing Officer – To present on its behalf of the case in support of the articles of charges</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ence Assistant – Employee may take the assistance of any employee of the Company only (Defence Assistant – not more than 2 cases outside RO.  Employee acting against breach of this Rule shall not be entitled for TA/DA)</a:t>
            </a:r>
            <a:endParaRPr b="0" lang="en-US" sz="2400" spc="-1" strike="noStrike">
              <a:solidFill>
                <a:srgbClr val="000000"/>
              </a:solidFill>
              <a:latin typeface="Calibri"/>
            </a:endParaRPr>
          </a:p>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inquiry if the employee admits the char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S</a:t>
            </a:r>
            <a:endParaRPr b="0" lang="en-US" sz="4400" spc="-1" strike="noStrike">
              <a:solidFill>
                <a:srgbClr val="000000"/>
              </a:solidFill>
              <a:latin typeface="Calibri"/>
            </a:endParaRPr>
          </a:p>
        </p:txBody>
      </p:sp>
      <p:sp>
        <p:nvSpPr>
          <p:cNvPr id="53" name="PlaceHolder 2"/>
          <p:cNvSpPr>
            <a:spLocks noGrp="1"/>
          </p:cNvSpPr>
          <p:nvPr>
            <p:ph type="subTitle"/>
          </p:nvPr>
        </p:nvSpPr>
        <p:spPr>
          <a:xfrm>
            <a:off x="837720" y="1294920"/>
            <a:ext cx="8001000" cy="4953240"/>
          </a:xfrm>
          <a:prstGeom prst="rect">
            <a:avLst/>
          </a:prstGeom>
          <a:noFill/>
          <a:ln w="0">
            <a:noFill/>
          </a:ln>
        </p:spPr>
        <p:txBody>
          <a:bodyPr anchor="t">
            <a:noAutofit/>
          </a:bodyPr>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DA RULE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DMINISTRATIVE INSTRUCTIONS ON WAGE REVISION – CLASS I, II, III &amp; IV</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MOTION POLICY FOR OFFICER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RANSFER AND MOBILITY POLICY FOR OFFICER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CRUITMENT RULE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EAVE RULE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MOTION POLICY FOR CLASS III / IV EMPLOYEE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OANS AND ADVANCE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BENEFIT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GRATUITY / PENSION CALC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228600" y="152280"/>
            <a:ext cx="8686800" cy="6477120"/>
          </a:xfrm>
          <a:prstGeom prst="rect">
            <a:avLst/>
          </a:prstGeom>
          <a:noFill/>
          <a:ln w="0">
            <a:noFill/>
          </a:ln>
        </p:spPr>
        <p:txBody>
          <a:bodyPr anchor="t">
            <a:normAutofit fontScale="95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employee does not appear in person, inquiry authority will hold the inquiry ex-par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onclusion of inquiry, report shall be prepared on articles of charges and the statement of the imputations or mis-conduct or mis-behaviour, defence of the employee, assessment of evidence and findings</a:t>
            </a:r>
            <a:endParaRPr b="0" lang="en-US" sz="24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Inquiring Authority should submit his report within 6 months.</a:t>
            </a:r>
            <a:endParaRPr b="0" lang="en-US" sz="20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6 – Action on the inquiry report  - Disciplinary Authority will go through the report and further action will be taken.</a:t>
            </a:r>
            <a:endParaRPr b="0" lang="en-US" sz="24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 27 – Procedure for imposing minor penalties – Employee is informed in writing of the imputation of mis-conduct / mis-behaviour.  Employee within 15 days has to reply</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 28 – Communication of Orders – Delivered personally to the employee / sent by registered post (if cannot be done, affixed on notice board)</a:t>
            </a:r>
            <a:endParaRPr b="0" lang="en-US" sz="22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9 – Common proceedings – Two or more employees concerned in a case, the authority competent to impose major penalty on the employee of the highest cad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28600" y="152280"/>
            <a:ext cx="861048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0 – Special procedure in certain cases – employee has been convicted on criminal charge, not reasonably practicable, due to interest of the security of the company, employee has abandoned the post (employee absents himself without leave or overstays his leave for a continuous period of 90 days without any intimation)  without holding any inquir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1 – Right to appeal – Appeal to the Appellate Authority (superior to the authority which has passed the order of penal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2 – Period of limitations of appeal – within a period of 3 months from the date of receipt of copy of or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3 – Form and contents of appeal – in his own nam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4 – Submission of appeal - Every appeal shall be submitted through the authority which made the order appealed against, Provided further that a copy of the appeal may be submitted directly to the Appellate Autho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28240" y="152280"/>
            <a:ext cx="8458200" cy="68580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5 – Withholding of appeals – does not comply with the provisions of Rule 33, not submitted within time limit, repetition of appeal already decided and no new facts Provided that an appeal withheld under this sub-rule shall be returned to the appellant and if resubmitted within one month thereof after complying with the provisions of Rule 33 shall not be withheld.  Quarterly statement on list of appeals withheld to be submitted to the Appellate Authority.</a:t>
            </a:r>
            <a:endParaRPr b="0" lang="en-US" sz="2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ule 36 – Transmission of Appeals – The authority which made the order shall forward the same to the Appellate Authority</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7 – Consideration of Appeals - All appeals should be disposed of as expeditiously as possible and in any event not later than 6 months from the date of receipt of the appeal by the Appellate Authority</a:t>
            </a:r>
            <a:endParaRPr b="0" lang="en-US" sz="2400" spc="-1" strike="noStrike">
              <a:solidFill>
                <a:srgbClr val="000000"/>
              </a:solidFill>
              <a:latin typeface="Calibri"/>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ule 38 – Appeal against other orders – Order passed which denies disadvantage to his salary, stopping an employee in efficiency bar in time scale, determining salary and allowances during suspension, etc</a:t>
            </a:r>
            <a:endParaRPr b="0" lang="en-US" sz="2000" spc="-1" strike="noStrike">
              <a:solidFill>
                <a:srgbClr val="000000"/>
              </a:solidFill>
              <a:latin typeface="Calibri"/>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46c0a"/>
                </a:solidFill>
                <a:latin typeface="Calibri"/>
              </a:rPr>
              <a:t>Rig</a:t>
            </a:r>
            <a:r>
              <a:rPr b="1" i="1" lang="en-US" sz="2000" spc="-1" strike="noStrike">
                <a:solidFill>
                  <a:srgbClr val="e46c0a"/>
                </a:solidFill>
                <a:latin typeface="Calibri"/>
              </a:rPr>
              <a:t>or effect – one year for minor penalties and two years for major penalties. Censure no rigor effec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28600" y="152280"/>
            <a:ext cx="8686800" cy="6477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39 – Review –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Y AT ITS OWN MOTION OR OTHERWISE AFTER CALLING FOR THE RECORDS REVIEW ANY ORDER WHICH IS MADE OR IS APPEA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FIRM, MODIFY OR SET ASIDE THE ORD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IT THE CASE TO ANY AUTHORITY TO ANY OFFI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SE PENALTI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40 – Memorial – Appeal rejected, may address to the appropriate memorial authority within a period of six months from the date of receipt of copy of order of appellate authorit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41 – Canvassing non-official or outside influenc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42 – Interpretation - Boar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43 – Amendments – Board</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44 – Authority to issue administrative instructions  - CM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melines at a glance</a:t>
            </a:r>
            <a:endParaRPr b="0" lang="en-US" sz="4400" spc="-1" strike="noStrike">
              <a:solidFill>
                <a:srgbClr val="000000"/>
              </a:solidFill>
              <a:latin typeface="Calibri"/>
            </a:endParaRPr>
          </a:p>
        </p:txBody>
      </p:sp>
      <p:sp>
        <p:nvSpPr>
          <p:cNvPr id="78" name=""/>
          <p:cNvSpPr txBox="1"/>
          <p:nvPr/>
        </p:nvSpPr>
        <p:spPr>
          <a:xfrm>
            <a:off x="457200" y="1295280"/>
            <a:ext cx="8229600" cy="5181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sheet – By Disciplinary Authority – within 15 days employee has to reply on the articles of charges – Max 45 d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quiry Report – Within a period of 6 months from the date of appointment of Inquiry Officer (maximum one more month can be taken if required – As per CVC Guideli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 Within 3 months from the date of receipt of penalty.  Can withhold appeal but resubmitted within one month has to be forwarded to Appellate Authority.  Appeal to be disposed off within 6 mont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morial – Within 6 months from the date of receipt of appeal orde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 name=""/>
          <p:cNvGraphicFramePr/>
          <p:nvPr/>
        </p:nvGraphicFramePr>
        <p:xfrm>
          <a:off x="152280" y="76320"/>
          <a:ext cx="8991720" cy="6689520"/>
        </p:xfrm>
        <a:graphic>
          <a:graphicData uri="http://schemas.openxmlformats.org/drawingml/2006/table">
            <a:tbl>
              <a:tblPr/>
              <a:tblGrid>
                <a:gridCol w="2306880"/>
                <a:gridCol w="1589040"/>
                <a:gridCol w="1431720"/>
                <a:gridCol w="2225880"/>
                <a:gridCol w="1438200"/>
              </a:tblGrid>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Category of Employees/</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Officer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ppointing</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uthority</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Disciplinary</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uthority</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ppellate</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uthority</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Memorial</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alibri"/>
                        </a:rPr>
                        <a:t>Authority</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b-Staff/Driver &amp; Equiv.</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ad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I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ecord Clerk/ Assistant &amp;</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quiv. Cadres</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I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I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387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r. Assistant &amp; Equiv. Cadres / Superintendent / Development</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fficer</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I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610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Officers in Scale I &amp; Scale 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10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or Officers in Scale-I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fficers in Scale-IV &amp; V</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 in</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cale-V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n Officer</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 Scale-V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oard Sub-</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ittee</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R)</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10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fficers in Scale- VI &amp; VII</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oard Sub-</a:t>
                      </a:r>
                      <a:endParaRPr b="0" lang="en-US" sz="1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mmittee (HR)</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oard</a:t>
                      </a:r>
                      <a:endParaRPr b="0" lang="en-US" sz="17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MOTION POLICY FOR OFFICERS 2006</a:t>
            </a:r>
            <a:endParaRPr b="0" lang="en-US" sz="28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ility – Applicable to promotion of officers up to the cadre of Scale VII </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V to VI and Scale VI to VII – shall be within GIPSA Companies, common seniority</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Scale V – Within company</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VI and VII – shall be on merit, 3 times the no. of vacancies subject to a maximum of 4 times</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 to Scale V – merit and seniority</a:t>
            </a:r>
            <a:endParaRPr b="0" lang="en-US" sz="2400" spc="-1" strike="noStrike">
              <a:solidFill>
                <a:srgbClr val="000000"/>
              </a:solidFill>
              <a:latin typeface="Calibri"/>
            </a:endParaRPr>
          </a:p>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for promotion to Scale VI and VII – should have completed minimum 2 full years and for promotions up to Scale V, should have completed minimum of 3 full years of service</a:t>
            </a:r>
            <a:endParaRPr b="0" lang="en-US" sz="2400" spc="-1" strike="noStrike">
              <a:solidFill>
                <a:srgbClr val="000000"/>
              </a:solidFill>
              <a:latin typeface="Calibri"/>
            </a:endParaRPr>
          </a:p>
          <a:p>
            <a:pPr marL="312120" indent="-3121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380520"/>
            <a:ext cx="8229600" cy="57150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a 22B – If the ZOC falls short of 4.5 times (Scale V promotion) or 3.5 times (Scale IV promotion), then Officers who have completed minimum 2 years in the respective cadre shall be included to the extent of ZO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ota for promotion under Normal and Fast track shall be 60% and 40% respectively</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view for Scale I to II under fast track scrapped</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stance of an Officer refusing promotion under Fast Track Channel shall result in counting of his participation in the Fast Track Channel of promotions as an attempt within the limits of </a:t>
            </a:r>
            <a:r>
              <a:rPr b="1" lang="en-US" sz="2200" spc="-1" strike="noStrike">
                <a:solidFill>
                  <a:srgbClr val="000000"/>
                </a:solidFill>
                <a:latin typeface="Calibri"/>
              </a:rPr>
              <a:t>02 </a:t>
            </a:r>
            <a:r>
              <a:rPr b="0" lang="en-US" sz="2200" spc="-1" strike="noStrike">
                <a:solidFill>
                  <a:srgbClr val="000000"/>
                </a:solidFill>
                <a:latin typeface="Calibri"/>
              </a:rPr>
              <a:t>attempts notwithstanding his having qualified in the Written Test.</a:t>
            </a:r>
            <a:endParaRPr b="0" lang="en-US" sz="2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olden Gate Scheme – Officers up to Scale IV eligible if another Officer superseded in promotion  for the 3 consecutive Promotion Exercises</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 name="Rectangle 1"/>
          <p:cNvSpPr/>
          <p:nvPr/>
        </p:nvSpPr>
        <p:spPr>
          <a:xfrm>
            <a:off x="533520" y="457200"/>
            <a:ext cx="8076960" cy="1219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5" name="" descr=""/>
          <p:cNvPicPr/>
          <p:nvPr/>
        </p:nvPicPr>
        <p:blipFill>
          <a:blip r:embed="rId1"/>
          <a:stretch/>
        </p:blipFill>
        <p:spPr>
          <a:xfrm>
            <a:off x="457200" y="1600200"/>
            <a:ext cx="8229600" cy="4525920"/>
          </a:xfrm>
          <a:prstGeom prst="rect">
            <a:avLst/>
          </a:prstGeom>
          <a:ln w="0">
            <a:noFill/>
          </a:ln>
        </p:spPr>
      </p:pic>
      <p:pic>
        <p:nvPicPr>
          <p:cNvPr id="86" name="Picture 2" descr=""/>
          <p:cNvPicPr/>
          <p:nvPr/>
        </p:nvPicPr>
        <p:blipFill>
          <a:blip r:embed="rId2"/>
          <a:stretch/>
        </p:blipFill>
        <p:spPr>
          <a:xfrm>
            <a:off x="214200" y="0"/>
            <a:ext cx="7939080" cy="6172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
          <p:cNvPicPr/>
          <p:nvPr/>
        </p:nvPicPr>
        <p:blipFill>
          <a:blip r:embed="rId1"/>
          <a:stretch/>
        </p:blipFill>
        <p:spPr>
          <a:xfrm>
            <a:off x="762120" y="533520"/>
            <a:ext cx="73152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ITED INDIA INSURANCE COMPANY (CDA) RULES, 2014</a:t>
            </a:r>
            <a:endParaRPr b="0" lang="en-US" sz="3000" spc="-1" strike="noStrike">
              <a:solidFill>
                <a:srgbClr val="000000"/>
              </a:solidFill>
              <a:latin typeface="Calibri"/>
            </a:endParaRPr>
          </a:p>
        </p:txBody>
      </p:sp>
      <p:sp>
        <p:nvSpPr>
          <p:cNvPr id="55" name="PlaceHolder 2"/>
          <p:cNvSpPr>
            <a:spLocks noGrp="1"/>
          </p:cNvSpPr>
          <p:nvPr>
            <p:ph type="subTitle"/>
          </p:nvPr>
        </p:nvSpPr>
        <p:spPr>
          <a:xfrm>
            <a:off x="380520" y="609120"/>
            <a:ext cx="8610840" cy="6248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IMPORTANT ASPECTS OF REVISED RULES</a:t>
            </a: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DA – Conduct, Discipline &amp; Appeal</a:t>
            </a:r>
            <a:endParaRPr b="0" lang="en-US" sz="2400" spc="-1" strike="noStrike">
              <a:solidFill>
                <a:srgbClr val="000000"/>
              </a:solidFill>
              <a:latin typeface="Calibri"/>
            </a:endParaRPr>
          </a:p>
          <a:p>
            <a:pPr algn="just">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ntroduction of Board Sub-committee (HR) as Appellate and Memorial Authorities</a:t>
            </a:r>
            <a:endParaRPr b="0" lang="en-US" sz="2400" spc="-1" strike="noStrike">
              <a:solidFill>
                <a:srgbClr val="000000"/>
              </a:solidFill>
              <a:latin typeface="Calibri"/>
            </a:endParaRPr>
          </a:p>
          <a:p>
            <a:pPr algn="just">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haring of computer password, e-crime, sexual harassment at workplace and influence of narcotics or drugs included as misconduct</a:t>
            </a:r>
            <a:endParaRPr b="0" lang="en-US" sz="2400" spc="-1" strike="noStrike">
              <a:solidFill>
                <a:srgbClr val="000000"/>
              </a:solidFill>
              <a:latin typeface="Calibri"/>
            </a:endParaRPr>
          </a:p>
          <a:p>
            <a:pPr algn="just">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imit of acceptance of gifts from relatives – Rs.10000, personal friend – Rs.7000 and other cases Rs.5000.</a:t>
            </a:r>
            <a:endParaRPr b="0" lang="en-US" sz="2400" spc="-1" strike="noStrike">
              <a:solidFill>
                <a:srgbClr val="000000"/>
              </a:solidFill>
              <a:latin typeface="Calibri"/>
            </a:endParaRPr>
          </a:p>
          <a:p>
            <a:pPr algn="just">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Review of suspension orders once in 3 month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151920" y="-360"/>
            <a:ext cx="8534520" cy="6705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one of consideration</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te : Eligible Officers in same batch will be considered, even if the total no. exceeds the above proportion.  Continuous service means period of duty excluding period on extraordinary leav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 9 – Qualifying benchmark</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9.1 Scale VI and Scale VII – screening interview by Screening Committee comprising of 4 or 5 outside expert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9.2  Up to Scale V – written test  scrapped under Normal Channel.</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fast track – 60 (54 for SC/ST)</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Fast track - No. of vacancies – 40% of total vacancies or 1.5 times the number of passed candidates (16</a:t>
            </a:r>
            <a:r>
              <a:rPr b="0" lang="en-US" sz="2400" spc="-1" strike="noStrike" baseline="30000">
                <a:solidFill>
                  <a:srgbClr val="000000"/>
                </a:solidFill>
                <a:latin typeface="Calibri"/>
              </a:rPr>
              <a:t>th</a:t>
            </a:r>
            <a:r>
              <a:rPr b="0" lang="en-US" sz="2400" spc="-1" strike="noStrike">
                <a:solidFill>
                  <a:srgbClr val="000000"/>
                </a:solidFill>
                <a:latin typeface="Calibri"/>
              </a:rPr>
              <a:t> Amendment)</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se seniority – 0.01 marks added</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89" name=""/>
          <p:cNvGraphicFramePr/>
          <p:nvPr/>
        </p:nvGraphicFramePr>
        <p:xfrm>
          <a:off x="1447920" y="609480"/>
          <a:ext cx="6095880" cy="1381320"/>
        </p:xfrm>
        <a:graphic>
          <a:graphicData uri="http://schemas.openxmlformats.org/drawingml/2006/table">
            <a:tbl>
              <a:tblPr/>
              <a:tblGrid>
                <a:gridCol w="3047760"/>
                <a:gridCol w="304812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r promotion to 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romotion to 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promotion to Scale III and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times the no. of vacanc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120"/>
            <a:ext cx="8305920" cy="6546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king Lis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Under Normal Channel – Based on seniority, qualification, work record and interview (wherever applicabl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C - Reserve List – equal to the no. of retirees during the year i.e., up to 31</a:t>
            </a:r>
            <a:r>
              <a:rPr b="0" lang="en-US" sz="1800" spc="-1" strike="noStrike" baseline="30000">
                <a:solidFill>
                  <a:srgbClr val="000000"/>
                </a:solidFill>
                <a:latin typeface="Calibri"/>
              </a:rPr>
              <a:t>st</a:t>
            </a:r>
            <a:r>
              <a:rPr b="0" lang="en-US" sz="1800" spc="-1" strike="noStrike">
                <a:solidFill>
                  <a:srgbClr val="000000"/>
                </a:solidFill>
                <a:latin typeface="Calibri"/>
              </a:rPr>
              <a:t> March of current financial year</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ingency List – 10% of vacanci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romoting Authority – Scale VII and VI – CMD, Scale V and IV – GM and Scale III and II – DGM</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acceptance of promotion – Refusal waiting period of next one promotion exercise (Promotion Committee is the Competent Authority for such cases)</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ting out – once in each cadre (Only for Scale VI and VII Promotions)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r>
              <a:rPr b="0" lang="en-US" sz="1800" spc="-1" strike="noStrike" baseline="30000">
                <a:solidFill>
                  <a:srgbClr val="000000"/>
                </a:solidFill>
                <a:latin typeface="Calibri"/>
              </a:rPr>
              <a:t>th</a:t>
            </a:r>
            <a:r>
              <a:rPr b="0" lang="en-US" sz="1800" spc="-1" strike="noStrike">
                <a:solidFill>
                  <a:srgbClr val="000000"/>
                </a:solidFill>
                <a:latin typeface="Calibri"/>
              </a:rPr>
              <a:t> Amendment allows opting out for two times upto Scale V also)</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22 A Special Dispensation when post of CMD is vacant / Leave of Absence is accorded to CMD:</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withstanding anything contained in the Policy, in the circumstances when post of CMD is vacant / Leave of Absence is accorded to CMD, the authority vested in and the functions to be discharged by the CMD for promotion of Officers up to Scale VI shall be vested in and discharged by the senior most Whole Time Director of the Compan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6</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 8 – Eligibility and Zone of consideration</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3 – Opt out from promotion process – Officers eligible can opt out from the Prom. Ex. For promotion upto Scale V twice in each cadre within 14 days from the date of declaration. No substitution or further inclusion shall be made.  Opting out - Twice in one cadr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 14A – Fast Track Promotion – Earlier twice the number has been reduced to 1.5 times. 0.33 to be ignored (passed cand./ 1.5) This is not applicable to Scale I to II promo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8</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tu promotions removed for Scale VI &amp; VII promo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D – Spl dispensation for prom to Scale VII – Officer should have completed one and half years in the existing scale as on 1</a:t>
            </a:r>
            <a:r>
              <a:rPr b="0" lang="en-US" sz="3200" spc="-1" strike="noStrike" baseline="30000">
                <a:solidFill>
                  <a:srgbClr val="000000"/>
                </a:solidFill>
                <a:latin typeface="Calibri"/>
              </a:rPr>
              <a:t>st</a:t>
            </a:r>
            <a:r>
              <a:rPr b="0" lang="en-US" sz="3200" spc="-1" strike="noStrike">
                <a:solidFill>
                  <a:srgbClr val="000000"/>
                </a:solidFill>
                <a:latin typeface="Calibri"/>
              </a:rPr>
              <a:t> of April and should have min. 2 full years of balance service.  3 times the no. of vacancies (For 2023-24 Prom Ex on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9</a:t>
            </a:r>
            <a:r>
              <a:rPr b="0" lang="en-US" sz="4400" spc="-1" strike="noStrike" baseline="30000">
                <a:solidFill>
                  <a:srgbClr val="000000"/>
                </a:solidFill>
                <a:latin typeface="Calibri"/>
              </a:rPr>
              <a:t>th</a:t>
            </a:r>
            <a:r>
              <a:rPr b="0" lang="en-US" sz="4400" spc="-1" strike="noStrike">
                <a:solidFill>
                  <a:srgbClr val="000000"/>
                </a:solidFill>
                <a:latin typeface="Calibri"/>
              </a:rPr>
              <a:t> Amendment</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Para 22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nual APAR (special APAR) means April to September for those who are eligible under ZOC and regular APAR year will contin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motion Policy for SCS Staff, 2008</a:t>
            </a:r>
            <a:endParaRPr b="0" lang="en-US" sz="4000" spc="-1" strike="noStrike">
              <a:solidFill>
                <a:srgbClr val="000000"/>
              </a:solidFill>
              <a:latin typeface="Calibri"/>
            </a:endParaRPr>
          </a:p>
        </p:txBody>
      </p:sp>
      <p:sp>
        <p:nvSpPr>
          <p:cNvPr id="98" name=""/>
          <p:cNvSpPr txBox="1"/>
          <p:nvPr/>
        </p:nvSpPr>
        <p:spPr>
          <a:xfrm>
            <a:off x="457200" y="609480"/>
            <a:ext cx="8229600" cy="55166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tional cadres – Scale I (Para 13.1 &amp; 13.2), Sr.Asst (Para 14 &amp; Para 25A) and Assistant (Para 15)</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rvation – SC – 15%, ST – 7.5%, PwBd – 4% for Asst, Sr.Asst and AO promotion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I – 50% each for Para 13.1 &amp; 13.2, probation 1 year, 4 zones, Promoting Authority – Scale V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r.Asst – 16 zones, Promoting Authority – Scale 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els – 5 times the number of vacancies for each category</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13.2, marks obtained in examination is reduced to 35 percent apart from seniority and qualification mark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152280"/>
            <a:ext cx="8229600" cy="5973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ale I – 13.1 – 7 years, 5 years with LIII, 3 years with AIII and immediate with FIII/Graduation in Engg or MB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I – 13.2 – Graduation or FIII (AIII for SC/ST), ICWAI, ICAI, ACS, MBA – No. of attempts 4 (5 for SC/ST), Minimum marks 60% (50% for SC/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r.Asst. - 7 years, 5 years with LIII, 3 years with AIII and immediate with FIII or reached ceiling</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t – Eligible for direct recruitment of Asst., matriculate with 10 years, passed departmental test or RC with 5 years.  Service rendered as PTE will also be counted as per their hours of work and passed computer literacy te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t-off date for qualification – Date of publication of Notice declaring vacanc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228240"/>
            <a:ext cx="8229600" cy="62485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ightag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iority – 2 marks for every year</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ication – Academic and Technical</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ademic – SSC – 5, HSC – 7, Degree – 12, PG – 15, Double degree – 15</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ical – LIII, MBA – 5, AIII – 10, FIII, MCA, ICAI, ACS, ICWAI – 15</a:t>
            </a:r>
            <a:endParaRPr b="0" lang="en-US" sz="2400" spc="-1" strike="noStrike">
              <a:solidFill>
                <a:srgbClr val="000000"/>
              </a:solidFill>
              <a:latin typeface="Calibri"/>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 25 – ACPS – ASSURED CAREER PROGRESSION SCEHEME (Running Scale)</a:t>
            </a:r>
            <a:endParaRPr b="0" lang="en-US" sz="2000" spc="-1" strike="noStrike">
              <a:solidFill>
                <a:srgbClr val="000000"/>
              </a:solidFill>
              <a:latin typeface="Calibri"/>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RA 25A – Spl. Provision for one promotion in life time for Assistants – 20 years of service and 50 completed years of age</a:t>
            </a:r>
            <a:endParaRPr b="0" lang="en-US" sz="2000" spc="-1" strike="noStrike">
              <a:solidFill>
                <a:srgbClr val="000000"/>
              </a:solidFill>
              <a:latin typeface="Calibri"/>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GNATION TO STAGNATION STAGE FIXATION ALLOWED WEF 01/04/2023</a:t>
            </a:r>
            <a:endParaRPr b="0" lang="en-US" sz="2000" spc="-1" strike="noStrike">
              <a:solidFill>
                <a:srgbClr val="000000"/>
              </a:solidFill>
              <a:latin typeface="Calibri"/>
            </a:endParaRPr>
          </a:p>
        </p:txBody>
      </p:sp>
      <p:graphicFrame>
        <p:nvGraphicFramePr>
          <p:cNvPr id="101" name=""/>
          <p:cNvGraphicFramePr/>
          <p:nvPr/>
        </p:nvGraphicFramePr>
        <p:xfrm>
          <a:off x="1523880" y="631800"/>
          <a:ext cx="6096240" cy="2263680"/>
        </p:xfrm>
        <a:graphic>
          <a:graphicData uri="http://schemas.openxmlformats.org/drawingml/2006/table">
            <a:tbl>
              <a:tblPr/>
              <a:tblGrid>
                <a:gridCol w="1524240"/>
                <a:gridCol w="1523880"/>
                <a:gridCol w="1523880"/>
                <a:gridCol w="1524240"/>
              </a:tblGrid>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rite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r.Ass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i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7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Qualific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8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k Recor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76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view</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 and Mobility Policy for Officers</a:t>
            </a:r>
            <a:endParaRPr b="0" lang="en-US" sz="4400" spc="-1" strike="noStrike">
              <a:solidFill>
                <a:srgbClr val="000000"/>
              </a:solidFill>
              <a:latin typeface="Calibri"/>
            </a:endParaRPr>
          </a:p>
        </p:txBody>
      </p:sp>
      <p:sp>
        <p:nvSpPr>
          <p:cNvPr id="103" name=""/>
          <p:cNvSpPr txBox="1"/>
          <p:nvPr/>
        </p:nvSpPr>
        <p:spPr>
          <a:xfrm>
            <a:off x="456840" y="1600200"/>
            <a:ext cx="8458200" cy="51055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icable upto Scale IV</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 Period of Posting (NPP) – 5 year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est transfer – Minimum after 3 years – Maximum 3 request transfers for the entire period of servic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request transfer is considered after 5 years, it will not be counted as a request  transf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fer benefits – No transfer benefit within the same city, in case of request transfers no transfer benefit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52280"/>
            <a:ext cx="8229600" cy="5973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ximum one year exemption may be given with the approval of CMD to an Officer who is handling specialised disciplin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sitive posts – Claims including Service and TP Hubs, Estate, Administration, Publicity, etc and in-charges of DO/BO declared as sensitive posts as per CVC. Maximum period is 3 years other than in charg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iod of stay in difficult area reduced from 3 to  2 years, excluding LOP, if any</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106668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employee shall not have right for increase in subsistence allowance immediately after 6 month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to a lower stage in the time scale for a period not exceeding 3 years included as minor penal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ding of “Dismissal” under major penalty changed to “Dismissal which shall ordinarily be a disqualification for future employment” under major penalt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sion in schedule of authorities under Schedule 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6840" y="380880"/>
            <a:ext cx="8381880" cy="6096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period of posting under TMP – Lady Officers up to Scale III transferred on TMP and Promotions may be considered for transfer on request after 2 year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mption – 13 major diseases.  Major diseases – Malignant cancer, Leprosy, TB, Paralysis, Brain tumour, CABG/ Heart valve replacement/ Angioplasty (Max 1 year), Chronic kidney disease, AIDS, Mental disease, Total replacement of joints – max 1 year, spinal surgery, disease of liver leading to Hepatic failure or transplantation, Thalassemia Major (breakdown of fragile blood cells and requires continuous lifesaving treatment with blood transfusion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s on superannuation – Up to Scale III only. Before 1 year can be considered for transfer to their place of request / home tow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axation – Rests with CMD</a:t>
            </a:r>
            <a:endParaRPr b="0" lang="en-US" sz="24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uitment Rules for Officers</a:t>
            </a:r>
            <a:endParaRPr b="0" lang="en-US" sz="4400" spc="-1" strike="noStrike">
              <a:solidFill>
                <a:srgbClr val="000000"/>
              </a:solidFill>
              <a:latin typeface="Calibri"/>
            </a:endParaRPr>
          </a:p>
        </p:txBody>
      </p:sp>
      <p:sp>
        <p:nvSpPr>
          <p:cNvPr id="107" name=""/>
          <p:cNvSpPr txBox="1"/>
          <p:nvPr/>
        </p:nvSpPr>
        <p:spPr>
          <a:xfrm>
            <a:off x="304560" y="1219320"/>
            <a:ext cx="8381880" cy="5333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y Cadre – Scale I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  60% in graduation, 55% for SC/ST candida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India Basi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rvation for SC – 15%, ST – 7.5%, OBC – 27% (vertic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 – written test and interview</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ation – 1 ye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ruitment Rules for Assistants</a:t>
            </a:r>
            <a:endParaRPr b="0" lang="en-US" sz="4400" spc="-1" strike="noStrike">
              <a:solidFill>
                <a:srgbClr val="000000"/>
              </a:solidFill>
              <a:latin typeface="Calibri"/>
            </a:endParaRPr>
          </a:p>
        </p:txBody>
      </p:sp>
      <p:sp>
        <p:nvSpPr>
          <p:cNvPr id="109" name=""/>
          <p:cNvSpPr txBox="1"/>
          <p:nvPr/>
        </p:nvSpPr>
        <p:spPr>
          <a:xfrm>
            <a:off x="304560" y="1219320"/>
            <a:ext cx="8381880" cy="5333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try Cadre – Assistan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  Graduation, knowledge of regional languag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te basi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ervation for SC/ST/OBC  – Depending on regional representation (vertic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wBd – 4% (1% each for VH, HH and OH, autism, multiple disabilities), 1% Ex-servicemen, etc (horizontal)</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e relaxation – UR – Min – 21 years and Max – 30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ST – 5 years relaxation, OBC – 3 year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x-servicemen – Max – 40 years for UR, 45 for SC/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lection – written test, regional language tes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bation – 6 month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DMINISTRATIVE INSTRUCTIONS ON WAGE REVISION – CLASS I</a:t>
            </a:r>
            <a:endParaRPr b="0" lang="en-US" sz="2800" spc="-1" strike="noStrike">
              <a:solidFill>
                <a:srgbClr val="000000"/>
              </a:solidFill>
              <a:latin typeface="Calibri"/>
            </a:endParaRPr>
          </a:p>
        </p:txBody>
      </p:sp>
      <p:sp>
        <p:nvSpPr>
          <p:cNvPr id="111"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mendment Scheme w.e.f. 01/08/2017 (16</a:t>
            </a:r>
            <a:r>
              <a:rPr b="0" lang="en-US" sz="2400" spc="-1" strike="noStrike" baseline="30000">
                <a:solidFill>
                  <a:srgbClr val="898989"/>
                </a:solidFill>
                <a:latin typeface="Calibri"/>
              </a:rPr>
              <a:t>th</a:t>
            </a:r>
            <a:r>
              <a:rPr b="0" lang="en-US" sz="2400" spc="-1" strike="noStrike">
                <a:solidFill>
                  <a:srgbClr val="898989"/>
                </a:solidFill>
                <a:latin typeface="Calibri"/>
              </a:rPr>
              <a:t> schedule)</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ligible only for existing / retired / VRS / expired Officers during the period from 01/08/2017 (Resigned/terminated not eligible for wage revision)</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Officers who have gone on golden gate scheme only difference in exgratia is payable</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t eligible for resigned Officers / appointed on contractual basi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Effective Date : BP, DA, HRA,CCA, TA,  mid-acad, spl. Area, transf. grant, leave encash, PF, New Pen.fund, Gratuity, FPA – 01/08/2017.       HSA, Kit Allowance, Paradeep Port Allowance, func allow, entertainment allowance   - 01/11/2022.</a:t>
            </a:r>
            <a:r>
              <a:rPr b="0" lang="en-US" sz="2400" spc="-1" strike="noStrike">
                <a:solidFill>
                  <a:srgbClr val="898989"/>
                </a:solidFill>
                <a:latin typeface="Calibri"/>
              </a:rPr>
              <a:t>Lumpsum medical – 01/01/2020</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7000" y="75960"/>
            <a:ext cx="9067680" cy="662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Personal Allowance (FPA) – The cadre in which an employee was there as on 01/11/1993.  FPA is released one year after reaching maximum of the scale. (Employees joined before 22/06/200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arness Allowance (DA) – All India Consumer Price Index 6352 (base year 1960=100).  Rate of DA – 0.08% of the revised basic pay .  DA revision every quarter – Feb, May, August, Novemb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ntly 693 slabs as on 01/11/2023 (55.44%)</a:t>
            </a:r>
            <a:endParaRPr b="0" lang="en-US" sz="2400" spc="-1" strike="noStrike">
              <a:solidFill>
                <a:srgbClr val="000000"/>
              </a:solidFill>
              <a:latin typeface="Calibri"/>
            </a:endParaRPr>
          </a:p>
        </p:txBody>
      </p:sp>
      <p:graphicFrame>
        <p:nvGraphicFramePr>
          <p:cNvPr id="113" name=""/>
          <p:cNvGraphicFramePr/>
          <p:nvPr/>
        </p:nvGraphicFramePr>
        <p:xfrm>
          <a:off x="1523880" y="1371600"/>
          <a:ext cx="3886200" cy="1752480"/>
        </p:xfrm>
        <a:graphic>
          <a:graphicData uri="http://schemas.openxmlformats.org/drawingml/2006/table">
            <a:tbl>
              <a:tblPr/>
              <a:tblGrid>
                <a:gridCol w="1828800"/>
                <a:gridCol w="205740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ubTitle"/>
          </p:nvPr>
        </p:nvSpPr>
        <p:spPr>
          <a:xfrm>
            <a:off x="151920" y="-152640"/>
            <a:ext cx="9068040" cy="7086600"/>
          </a:xfrm>
          <a:prstGeom prst="rect">
            <a:avLst/>
          </a:prstGeom>
          <a:noFill/>
          <a:ln w="0">
            <a:noFill/>
          </a:ln>
        </p:spPr>
        <p:txBody>
          <a:bodyPr anchor="t">
            <a:noAutofit/>
          </a:bodyPr>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House Rent Allowanc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Officers provided leased accommodation – No HRA.  Licence Fee @ 0.50% of minimum basic pay of the revised scale w.e.f 01/11/2022 is deducted.(upto 31/10/22 – pre-revised pay and rate will continue)</a:t>
            </a: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5" name=""/>
          <p:cNvGraphicFramePr/>
          <p:nvPr/>
        </p:nvGraphicFramePr>
        <p:xfrm>
          <a:off x="533520" y="741240"/>
          <a:ext cx="8076960" cy="4211640"/>
        </p:xfrm>
        <a:graphic>
          <a:graphicData uri="http://schemas.openxmlformats.org/drawingml/2006/table">
            <a:tbl>
              <a:tblPr/>
              <a:tblGrid>
                <a:gridCol w="907920"/>
                <a:gridCol w="4476600"/>
                <a:gridCol w="2692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187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75960" y="151920"/>
            <a:ext cx="891540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ity Compensatory Allowance (CCA)</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 4 classes viz., Metro, Class A, B &amp; C</a:t>
            </a:r>
            <a:endParaRPr b="0" lang="en-US" sz="3200" spc="-1" strike="noStrike">
              <a:solidFill>
                <a:srgbClr val="000000"/>
              </a:solidFill>
              <a:latin typeface="Calibri"/>
            </a:endParaRPr>
          </a:p>
        </p:txBody>
      </p:sp>
      <p:graphicFrame>
        <p:nvGraphicFramePr>
          <p:cNvPr id="117"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2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of pay subject to a maximum of Rs.19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pay subject to a maximum of Rs.1,86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52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pay subject to a maximum of Rs.1445/-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51920"/>
            <a:ext cx="8229600" cy="670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ed Personal Allowance (F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19" name=""/>
          <p:cNvGraphicFramePr/>
          <p:nvPr/>
        </p:nvGraphicFramePr>
        <p:xfrm>
          <a:off x="914400" y="838080"/>
          <a:ext cx="7086600" cy="39988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V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43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3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3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4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52280" y="151920"/>
            <a:ext cx="876312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ransport Allowance – Rs.1960 per mon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nveyance Allowance for PwD – Rs.400 per mon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vident Fund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Officers appointed before 01/01/2004 -10% of basic p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includes FPA als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Officers joined between 01/01/2004  - 10% of basic p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nd 31/03/2010 (includes FPA als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Officers joined  after                              - No recovery towards P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31/03/2010                                         Covered under N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NATIONAL PENS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r>
              <a:rPr b="0" lang="en-US" sz="2400" spc="-1" strike="noStrike">
                <a:solidFill>
                  <a:srgbClr val="898989"/>
                </a:solidFill>
                <a:latin typeface="Calibri"/>
              </a:rPr>
              <a:t>	</a:t>
            </a:r>
            <a:r>
              <a:rPr b="0" lang="en-US" sz="2400" spc="-1" strike="noStrike">
                <a:solidFill>
                  <a:srgbClr val="898989"/>
                </a:solidFill>
                <a:latin typeface="Calibri"/>
              </a:rPr>
              <a:t>	</a:t>
            </a:r>
            <a:r>
              <a:rPr b="0" lang="en-US" sz="2400" spc="-1" strike="noStrike">
                <a:solidFill>
                  <a:srgbClr val="898989"/>
                </a:solidFill>
                <a:latin typeface="Calibri"/>
              </a:rPr>
              <a:t>	</a:t>
            </a:r>
            <a:r>
              <a:rPr b="0" lang="en-US" sz="2400" spc="-1" strike="noStrike">
                <a:solidFill>
                  <a:srgbClr val="898989"/>
                </a:solidFill>
                <a:latin typeface="Calibri"/>
              </a:rPr>
              <a:t>	</a:t>
            </a:r>
            <a:r>
              <a:rPr b="0" lang="en-US" sz="2400" spc="-1" strike="noStrike">
                <a:solidFill>
                  <a:srgbClr val="898989"/>
                </a:solidFill>
                <a:latin typeface="Calibri"/>
              </a:rPr>
              <a:t>SYSTEM)- 10% of BP+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2"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245/-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23"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9000/-</a:t>
            </a:r>
            <a:endParaRPr b="0" lang="en-US" sz="1800" spc="-1" strike="noStrike">
              <a:solidFill>
                <a:srgbClr val="000000"/>
              </a:solidFill>
              <a:latin typeface="Calibri"/>
            </a:endParaRPr>
          </a:p>
        </p:txBody>
      </p:sp>
      <p:sp>
        <p:nvSpPr>
          <p:cNvPr id="124"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A RULES – In detail</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ule is applicable to all employees appointed in UIIC or in NIA, NIC, OIC, GIC and AICI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ule is also applicable to persons governed by General Insurance (Employees’) Pension Scheme, 1995 and amendments thereto to the extend provided under the said Scheme</a:t>
            </a: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le 2 – Definitions</a:t>
            </a: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 – General Insurance Business (Nationalisation) Act, 1972 and subsequent amendments thereto</a:t>
            </a:r>
            <a:endParaRPr b="0" lang="en-US" sz="2400" spc="-1" strike="noStrike">
              <a:solidFill>
                <a:srgbClr val="000000"/>
              </a:solidFill>
              <a:latin typeface="Calibri"/>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ent Authority – Ordinarily means superior authority to whom the employee repor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228600"/>
            <a:ext cx="8229600" cy="6324480"/>
          </a:xfrm>
          <a:prstGeom prst="rect">
            <a:avLst/>
          </a:prstGeom>
          <a:noFill/>
          <a:ln w="0">
            <a:noFill/>
          </a:ln>
        </p:spPr>
        <p:txBody>
          <a:bodyPr anchor="t">
            <a:noAutofit/>
          </a:bodyPr>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Lumpsum medical benefit (Basic Pay as on 1</a:t>
            </a:r>
            <a:r>
              <a:rPr b="1" lang="en-US" sz="2400" spc="-1" strike="noStrike" baseline="30000">
                <a:solidFill>
                  <a:srgbClr val="898989"/>
                </a:solidFill>
                <a:latin typeface="Calibri"/>
              </a:rPr>
              <a:t>st</a:t>
            </a:r>
            <a:r>
              <a:rPr b="1" lang="en-US" sz="2400" spc="-1" strike="noStrike">
                <a:solidFill>
                  <a:srgbClr val="898989"/>
                </a:solidFill>
                <a:latin typeface="Calibri"/>
              </a:rPr>
              <a:t> Jan) –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r>
              <a:rPr b="1" lang="en-US" sz="2400" spc="-1" strike="noStrike">
                <a:solidFill>
                  <a:srgbClr val="898989"/>
                </a:solidFill>
                <a:latin typeface="Calibri"/>
              </a:rPr>
              <a:t>Basic Pay upto Rs.91345/-    - Rs.19600/-</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r>
              <a:rPr b="1" lang="en-US" sz="2400" spc="-1" strike="noStrike">
                <a:solidFill>
                  <a:srgbClr val="898989"/>
                </a:solidFill>
                <a:latin typeface="Calibri"/>
              </a:rPr>
              <a:t>Above Basic Pay Rs.91345/- - Rs.29400/-</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Mid-academic year allowance – Rs.1625/-</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Non-practicing allowance for Doctors – 25% of the BP subject to the condition that BP+NPA does not exceed ultimate BP of Scale IV </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Functional Allowance to Officers – Rs.1625/-</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	</a:t>
            </a:r>
            <a:r>
              <a:rPr b="1" lang="en-US" sz="2400" spc="-1" strike="noStrike">
                <a:solidFill>
                  <a:srgbClr val="898989"/>
                </a:solidFill>
                <a:latin typeface="Calibri"/>
              </a:rPr>
              <a:t>	</a:t>
            </a:r>
            <a:r>
              <a:rPr b="1" lang="en-US" sz="2400" spc="-1" strike="noStrike">
                <a:solidFill>
                  <a:srgbClr val="898989"/>
                </a:solidFill>
                <a:latin typeface="Calibri"/>
              </a:rPr>
              <a:t>(IAI &amp; Vigilance)</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ntertainment Allowance –</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Branch In-charge    – Rs.1770/-</a:t>
            </a:r>
            <a:endParaRPr b="0" lang="en-US" sz="2400" spc="-1" strike="noStrike">
              <a:solidFill>
                <a:srgbClr val="0000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Division In-charge   -  Rs.21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2"/>
          <p:cNvSpPr/>
          <p:nvPr/>
        </p:nvSpPr>
        <p:spPr>
          <a:xfrm>
            <a:off x="533520" y="15228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27"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6676 and abov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756 to 1466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351 to 1057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925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28"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29"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30"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fficer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DMINISTRATIVE INSTRUCTIONS ON WAGE REVISION – CLASS II</a:t>
            </a:r>
            <a:endParaRPr b="0" lang="en-US" sz="2800" spc="-1" strike="noStrike">
              <a:solidFill>
                <a:srgbClr val="000000"/>
              </a:solidFill>
              <a:latin typeface="Calibri"/>
            </a:endParaRPr>
          </a:p>
        </p:txBody>
      </p:sp>
      <p:sp>
        <p:nvSpPr>
          <p:cNvPr id="132"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mendment Scheme w.e.f. 01/08/2017</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ligible only for existing / retired / VRS / expired  Development Officers during the period from 01/08/2017</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t eligible for resigned/terminated Development Officers and contractual basis</a:t>
            </a:r>
            <a:endParaRPr b="0" lang="en-US" sz="2400" spc="-1" strike="noStrike">
              <a:solidFill>
                <a:srgbClr val="000000"/>
              </a:solidFill>
              <a:latin typeface="Calibri"/>
            </a:endParaRPr>
          </a:p>
          <a:p>
            <a:pPr marL="457200" indent="-457200">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898989"/>
                </a:solidFill>
                <a:latin typeface="Calibri"/>
              </a:rPr>
              <a:t>Lumpsum medical – 01/01/2020</a:t>
            </a:r>
            <a:endParaRPr b="0" lang="en-US" sz="28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itment on promotion – Within 90 days from the date of publication of administrative instructions</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quitable Relief – Difference between aggregate of gross emolumen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360"/>
            <a:ext cx="9067680" cy="6831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gnation increments : once in 3 years after reaching ceiling in the sca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34"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velopment Offi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e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35" name="TextBox 1"/>
          <p:cNvSpPr/>
          <p:nvPr/>
        </p:nvSpPr>
        <p:spPr>
          <a:xfrm>
            <a:off x="152280" y="205740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ill Station Allowance (HS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6" name=""/>
          <p:cNvGraphicFramePr/>
          <p:nvPr/>
        </p:nvGraphicFramePr>
        <p:xfrm>
          <a:off x="838080" y="2514600"/>
          <a:ext cx="7543800" cy="3944880"/>
        </p:xfrm>
        <a:graphic>
          <a:graphicData uri="http://schemas.openxmlformats.org/drawingml/2006/table">
            <a:tbl>
              <a:tblPr/>
              <a:tblGrid>
                <a:gridCol w="685800"/>
                <a:gridCol w="4648320"/>
                <a:gridCol w="22096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20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of pay subject to maximum of Rs.662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75960" y="151920"/>
            <a:ext cx="891540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ity Compensatory Allowance (CCA)</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 4 classes viz., Metro, Class A, B &amp; C</a:t>
            </a:r>
            <a:endParaRPr b="0" lang="en-US" sz="3200" spc="-1" strike="noStrike">
              <a:solidFill>
                <a:srgbClr val="000000"/>
              </a:solidFill>
              <a:latin typeface="Calibri"/>
            </a:endParaRPr>
          </a:p>
        </p:txBody>
      </p:sp>
      <p:graphicFrame>
        <p:nvGraphicFramePr>
          <p:cNvPr id="138"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2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of pay subject to a maximum of Rs.16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pay subject to a maximum of Rs.153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52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pay subject to a maximum of Rs.1345/-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28600"/>
            <a:ext cx="8229600" cy="5897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40" name=""/>
          <p:cNvGraphicFramePr/>
          <p:nvPr/>
        </p:nvGraphicFramePr>
        <p:xfrm>
          <a:off x="914400" y="838080"/>
          <a:ext cx="7238880" cy="5578560"/>
        </p:xfrm>
        <a:graphic>
          <a:graphicData uri="http://schemas.openxmlformats.org/drawingml/2006/table">
            <a:tbl>
              <a:tblPr/>
              <a:tblGrid>
                <a:gridCol w="814320"/>
                <a:gridCol w="4524480"/>
                <a:gridCol w="190008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201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Cost and Works Account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51920"/>
            <a:ext cx="8229600" cy="6705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Personal Allowance (FPA)</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yance Allowance for DO(A) – Rs.925/-</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yance Allowance for PwD – Rs.400 per mont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42" name=""/>
          <p:cNvGraphicFramePr/>
          <p:nvPr/>
        </p:nvGraphicFramePr>
        <p:xfrm>
          <a:off x="914400" y="838080"/>
          <a:ext cx="7086600" cy="179568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3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ment Officers Gr 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ment Officers Gr 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4"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45"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2"/>
          <p:cNvSpPr/>
          <p:nvPr/>
        </p:nvSpPr>
        <p:spPr>
          <a:xfrm>
            <a:off x="76320" y="1417680"/>
            <a:ext cx="7543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amp; Group Term Linked Insurance (GT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47" name=""/>
          <p:cNvGraphicFramePr/>
          <p:nvPr/>
        </p:nvGraphicFramePr>
        <p:xfrm>
          <a:off x="1523880" y="1870200"/>
          <a:ext cx="5131080" cy="1482480"/>
        </p:xfrm>
        <a:graphic>
          <a:graphicData uri="http://schemas.openxmlformats.org/drawingml/2006/table">
            <a:tbl>
              <a:tblPr/>
              <a:tblGrid>
                <a:gridCol w="1143000"/>
                <a:gridCol w="3988080"/>
              </a:tblGrid>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351 to 997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315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48" name="TextBox 4"/>
          <p:cNvSpPr/>
          <p:nvPr/>
        </p:nvSpPr>
        <p:spPr>
          <a:xfrm>
            <a:off x="609480" y="351648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49" name=""/>
          <p:cNvGraphicFramePr/>
          <p:nvPr/>
        </p:nvGraphicFramePr>
        <p:xfrm>
          <a:off x="1143000" y="41148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50" name="TextBox 6"/>
          <p:cNvSpPr/>
          <p:nvPr/>
        </p:nvSpPr>
        <p:spPr>
          <a:xfrm>
            <a:off x="685800" y="605952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Officers under Suspension – May be allowed fixation and arrears may be paid and subsistence allowance revised</a:t>
            </a:r>
            <a:endParaRPr b="0" lang="en-US" sz="1800" spc="-1" strike="noStrike">
              <a:solidFill>
                <a:srgbClr val="000000"/>
              </a:solidFill>
              <a:latin typeface="Calibri"/>
            </a:endParaRPr>
          </a:p>
        </p:txBody>
      </p:sp>
      <p:sp>
        <p:nvSpPr>
          <p:cNvPr id="151" name="TextBox 1"/>
          <p:cNvSpPr/>
          <p:nvPr/>
        </p:nvSpPr>
        <p:spPr>
          <a:xfrm>
            <a:off x="152280" y="152280"/>
            <a:ext cx="7239240" cy="13136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umpsum medical benefit (Basic Pay as on 1</a:t>
            </a:r>
            <a:r>
              <a:rPr b="0" lang="en-US" sz="2000" spc="-1" strike="noStrike" baseline="30000">
                <a:solidFill>
                  <a:srgbClr val="000000"/>
                </a:solidFill>
                <a:latin typeface="Calibri"/>
              </a:rPr>
              <a:t>st</a:t>
            </a:r>
            <a:r>
              <a:rPr b="0" lang="en-US" sz="2000" spc="-1" strike="noStrike">
                <a:solidFill>
                  <a:srgbClr val="000000"/>
                </a:solidFill>
                <a:latin typeface="Calibri"/>
              </a:rPr>
              <a:t> Jan) – </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asic Pay upto Rs.72375/-    - Rs.123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bove Basic Pay Rs.72375/- - Rs.19600/-</a:t>
            </a:r>
            <a:endParaRPr b="0" lang="en-US" sz="20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ADMINISTRATIVE INSTRUCTIONS ON WAGE REVISION – CLASS III &amp; IV</a:t>
            </a:r>
            <a:endParaRPr b="0" lang="en-US" sz="2800" spc="-1" strike="noStrike">
              <a:solidFill>
                <a:srgbClr val="000000"/>
              </a:solidFill>
              <a:latin typeface="Calibri"/>
            </a:endParaRPr>
          </a:p>
        </p:txBody>
      </p:sp>
      <p:sp>
        <p:nvSpPr>
          <p:cNvPr id="153" name="PlaceHolder 2"/>
          <p:cNvSpPr>
            <a:spLocks noGrp="1"/>
          </p:cNvSpPr>
          <p:nvPr>
            <p:ph type="subTitle"/>
          </p:nvPr>
        </p:nvSpPr>
        <p:spPr>
          <a:xfrm>
            <a:off x="380520" y="1218960"/>
            <a:ext cx="8534520" cy="5257800"/>
          </a:xfrm>
          <a:prstGeom prst="rect">
            <a:avLst/>
          </a:prstGeom>
          <a:noFill/>
          <a:ln w="0">
            <a:noFill/>
          </a:ln>
        </p:spPr>
        <p:txBody>
          <a:bodyPr anchor="t">
            <a:noAutofit/>
          </a:bodyPr>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mendment Scheme w.e.f. 01/08/2017</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ligible only for existing / retired / VRS / expired employees during the period from 01/08/2017  (Resigned/terminated not eligible for wage revision)</a:t>
            </a:r>
            <a:endParaRPr b="0" lang="en-US" sz="24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t eligible for resigned employees / appointed on contractual basis</a:t>
            </a:r>
            <a:endParaRPr b="0" lang="en-US" sz="2400" spc="-1" strike="noStrike">
              <a:solidFill>
                <a:srgbClr val="000000"/>
              </a:solidFill>
              <a:latin typeface="Calibri"/>
            </a:endParaRPr>
          </a:p>
          <a:p>
            <a:pPr marL="457200" indent="-457200">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Effective Date : BP, DA, HRA,CCA, TA,  mid-acad, spl. Area, transf. grant, leave encash, PF, New Pen.fund, Gratuity, FPA – 01/08/2017.       HSA, Kit Allowance, Paradeep Port Allowance, func allow    - 01/11/2022.</a:t>
            </a:r>
            <a:r>
              <a:rPr b="0" lang="en-US" sz="2800" spc="-1" strike="noStrike">
                <a:solidFill>
                  <a:srgbClr val="898989"/>
                </a:solidFill>
                <a:latin typeface="Calibri"/>
              </a:rPr>
              <a:t>Lumpsum medical –01/01/2020</a:t>
            </a:r>
            <a:endParaRPr b="0" lang="en-US" sz="2800" spc="-1" strike="noStrike">
              <a:solidFill>
                <a:srgbClr val="000000"/>
              </a:solidFill>
              <a:latin typeface="Calibri"/>
            </a:endParaRPr>
          </a:p>
          <a:p>
            <a:pPr marL="457200" indent="-45720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Fitment on promotion – Within 90 days from the date of publication of administrative instruc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152280"/>
            <a:ext cx="8229600" cy="5973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 Employee of the Company other than casual, work-charged (specific work) and contingent staff (temporary or need bas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 wife or husband, dependent children, </a:t>
            </a:r>
            <a:r>
              <a:rPr b="1" lang="en-US" sz="2400" spc="-1" strike="noStrike">
                <a:solidFill>
                  <a:srgbClr val="000000"/>
                </a:solidFill>
                <a:latin typeface="Calibri"/>
              </a:rPr>
              <a:t>any other person wholly dependent on the employe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ard Sub-committee (HR) – A sub-committee of Directors of the Board nominated by the Boar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Servant – as mentioned in Section 21 of IP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xual Harassment &amp; work place – as defined under ‘the sexual harassment of women at workplace (Prevention, prohibition and Redressal) Act, 2013</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27000" y="75960"/>
            <a:ext cx="9067680" cy="662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gnation increments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55" name=""/>
          <p:cNvGraphicFramePr/>
          <p:nvPr/>
        </p:nvGraphicFramePr>
        <p:xfrm>
          <a:off x="1523880" y="685800"/>
          <a:ext cx="3886200" cy="1380960"/>
        </p:xfrm>
        <a:graphic>
          <a:graphicData uri="http://schemas.openxmlformats.org/drawingml/2006/table">
            <a:tbl>
              <a:tblPr/>
              <a:tblGrid>
                <a:gridCol w="1828800"/>
                <a:gridCol w="2057400"/>
              </a:tblGrid>
              <a:tr h="64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a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 of Stagnation increment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ac090"/>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r.Asst/Ste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once in 3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once in 2 yea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56" name="TextBox 1"/>
          <p:cNvSpPr/>
          <p:nvPr/>
        </p:nvSpPr>
        <p:spPr>
          <a:xfrm>
            <a:off x="304920" y="2209680"/>
            <a:ext cx="655308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Assistants</a:t>
            </a:r>
            <a:endParaRPr b="0" lang="en-US" sz="1800" spc="-1" strike="noStrike">
              <a:solidFill>
                <a:srgbClr val="000000"/>
              </a:solidFill>
              <a:latin typeface="Calibri"/>
            </a:endParaRPr>
          </a:p>
        </p:txBody>
      </p:sp>
      <p:sp>
        <p:nvSpPr>
          <p:cNvPr id="157" name="TextBox 4"/>
          <p:cNvSpPr/>
          <p:nvPr/>
        </p:nvSpPr>
        <p:spPr>
          <a:xfrm>
            <a:off x="685800" y="2666880"/>
            <a:ext cx="762012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graduated on or after 01/01/1973 but before 01/08/2007 &amp; not reached maximum of the scale shall be granted maximum 2  increments</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 increment if the basic pay of the employee is Rs.59765</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duation allowance can be paid to Assistants if reached maximum and graduated before 01/08/2007</a:t>
            </a: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a:t>
            </a:r>
            <a:r>
              <a:rPr b="0" lang="en-US" sz="1800" spc="-1" strike="noStrike" baseline="30000">
                <a:solidFill>
                  <a:srgbClr val="000000"/>
                </a:solidFill>
                <a:latin typeface="Calibri"/>
              </a:rPr>
              <a:t>st</a:t>
            </a:r>
            <a:r>
              <a:rPr b="0" lang="en-US" sz="1800" spc="-1" strike="noStrike">
                <a:solidFill>
                  <a:srgbClr val="000000"/>
                </a:solidFill>
                <a:latin typeface="Calibri"/>
              </a:rPr>
              <a:t> year – Rs.920,       2</a:t>
            </a:r>
            <a:r>
              <a:rPr b="0" lang="en-US" sz="1800" spc="-1" strike="noStrike" baseline="30000">
                <a:solidFill>
                  <a:srgbClr val="000000"/>
                </a:solidFill>
                <a:latin typeface="Calibri"/>
              </a:rPr>
              <a:t>nd</a:t>
            </a:r>
            <a:r>
              <a:rPr b="0" lang="en-US" sz="1800" spc="-1" strike="noStrike">
                <a:solidFill>
                  <a:srgbClr val="000000"/>
                </a:solidFill>
                <a:latin typeface="Calibri"/>
              </a:rPr>
              <a:t> year – Rs.1625</a:t>
            </a:r>
            <a:endParaRPr b="0" lang="en-US" sz="1800" spc="-1" strike="noStrike">
              <a:solidFill>
                <a:srgbClr val="000000"/>
              </a:solidFill>
              <a:latin typeface="Calibri"/>
            </a:endParaRPr>
          </a:p>
        </p:txBody>
      </p:sp>
      <p:sp>
        <p:nvSpPr>
          <p:cNvPr id="158" name="TextBox 5"/>
          <p:cNvSpPr/>
          <p:nvPr/>
        </p:nvSpPr>
        <p:spPr>
          <a:xfrm>
            <a:off x="457200" y="4964040"/>
            <a:ext cx="78487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aduation Increment / Allowance to employees to Record Clerks – Rs.61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51920" y="-152640"/>
            <a:ext cx="9068040" cy="7086600"/>
          </a:xfrm>
          <a:prstGeom prst="rect">
            <a:avLst/>
          </a:prstGeom>
          <a:noFill/>
          <a:ln w="0">
            <a:noFill/>
          </a:ln>
        </p:spPr>
        <p:txBody>
          <a:bodyPr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House Rent Allow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Calibri"/>
              </a:rPr>
              <a:t>Employees provided leased accommodation – No HRA.  License Fee @ 0.50% of minimum basic pay of the revised scale w.e.f 01/11/2022 is deducted.</a:t>
            </a:r>
            <a:endParaRPr b="0" lang="en-US" sz="20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60" name=""/>
          <p:cNvGraphicFramePr/>
          <p:nvPr/>
        </p:nvGraphicFramePr>
        <p:xfrm>
          <a:off x="533520" y="609480"/>
          <a:ext cx="8076960" cy="4211640"/>
        </p:xfrm>
        <a:graphic>
          <a:graphicData uri="http://schemas.openxmlformats.org/drawingml/2006/table">
            <a:tbl>
              <a:tblPr/>
              <a:tblGrid>
                <a:gridCol w="907920"/>
                <a:gridCol w="4476600"/>
                <a:gridCol w="269244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 Ne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 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of pay subject to maximum of Rs.784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 lacs exce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ies mentioned at serial number 1, and al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 of pay subject to maximum of Rs.6620/- per month (Minimum Rs.14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pla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 of pay subject to maximum of Rs.6370/-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Minimum Rs.14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ubTitle"/>
          </p:nvPr>
        </p:nvSpPr>
        <p:spPr>
          <a:xfrm>
            <a:off x="75960" y="151920"/>
            <a:ext cx="891540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ity Compensatory Allowance (CCA)</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 4 classes viz., Metro, Class A, B &amp; C</a:t>
            </a:r>
            <a:endParaRPr b="0" lang="en-US" sz="3200" spc="-1" strike="noStrike">
              <a:solidFill>
                <a:srgbClr val="000000"/>
              </a:solidFill>
              <a:latin typeface="Calibri"/>
            </a:endParaRPr>
          </a:p>
        </p:txBody>
      </p:sp>
      <p:graphicFrame>
        <p:nvGraphicFramePr>
          <p:cNvPr id="162" name=""/>
          <p:cNvGraphicFramePr/>
          <p:nvPr/>
        </p:nvGraphicFramePr>
        <p:xfrm>
          <a:off x="380880" y="1371600"/>
          <a:ext cx="8534520" cy="4876920"/>
        </p:xfrm>
        <a:graphic>
          <a:graphicData uri="http://schemas.openxmlformats.org/drawingml/2006/table">
            <a:tbl>
              <a:tblPr/>
              <a:tblGrid>
                <a:gridCol w="960480"/>
                <a:gridCol w="5135760"/>
                <a:gridCol w="2438280"/>
              </a:tblGrid>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a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lace of Posting</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2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r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of Mumbai, Navi Mumbai, Kolkat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w Delhi, Chennai, Ahmedabad, Bengalur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erabad, Pune, Faridabad, Ghaziabad, Noi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Gurga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of pay subject to a maximum of Rs.155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exceeding 1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cs, except cities mentioned in serial number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all cities in the State of Go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pay subject to a maximum of Rs.14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52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ities with population of 5 lacs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but not exceeding 12 lacs, State capital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th population not exceeding 12 lac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ndigarh, Mohali, Panchkula, Pondicherry, 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i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pay subject to a maximum of Rs.1255/- p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other C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80880" y="304920"/>
            <a:ext cx="8229600" cy="5821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al Allowance – Employee can draw only one F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64" name=""/>
          <p:cNvGraphicFramePr/>
          <p:nvPr/>
        </p:nvGraphicFramePr>
        <p:xfrm>
          <a:off x="685800" y="925560"/>
          <a:ext cx="7543800" cy="5653080"/>
        </p:xfrm>
        <a:graphic>
          <a:graphicData uri="http://schemas.openxmlformats.org/drawingml/2006/table">
            <a:tbl>
              <a:tblPr/>
              <a:tblGrid>
                <a:gridCol w="685800"/>
                <a:gridCol w="5638680"/>
                <a:gridCol w="1219320"/>
              </a:tblGrid>
              <a:tr h="1442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bordinate Staff engaged in either as Key Holder or for carrying cash to or from Bank, as his regular and main function, where the amount of cash carried during a calendar month is ordinarily Rs. 25,000/- or mo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s. 1000/- p.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Subordinate Staff working as Liftmen, Machine Operators, Head Peons, Jamadars, Daftaries, AC Plant Operators and Heavy Vehicle Drivers, who were assigned these functions before 1st day of January, 20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165/- p.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istant (or Senior Assistant, in the event of non-availability of Assistant) engaged in handling cash in an office, as his regular and main function, where the amount of cash transactions during a calendar month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dinarily Rs. 25,000/- or mo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2120/- p.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lex Operators, Punch Card Operators, Unit Record Machine Operators and Comptists, who were assigned these functions before 1st day of January, 20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60/- p.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enographer to Chairman-cum-Managing Director, Scale VII, Scale VI and equivalent position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75/- p.m.</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51920" y="75960"/>
            <a:ext cx="8534520" cy="6049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ance for Technical Qualific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66" name=""/>
          <p:cNvGraphicFramePr/>
          <p:nvPr/>
        </p:nvGraphicFramePr>
        <p:xfrm>
          <a:off x="457200" y="609480"/>
          <a:ext cx="8229600" cy="6096240"/>
        </p:xfrm>
        <a:graphic>
          <a:graphicData uri="http://schemas.openxmlformats.org/drawingml/2006/table">
            <a:tbl>
              <a:tblPr/>
              <a:tblGrid>
                <a:gridCol w="609480"/>
                <a:gridCol w="5791320"/>
                <a:gridCol w="1828800"/>
              </a:tblGrid>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l. 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xamin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llowance for Technical Qualification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rance Institute of India or Chartere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urance Institu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centi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Associateshi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Fellowship</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55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50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Actuar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passing each subjec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55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797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e of Chartered Account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 Institute of Cost and Works Account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completion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Intermediate Examinat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 Final Group A or Group 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 Final Group A and Group B</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8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845/-</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completion of Master of Business Administration of a recognised University or Institution (AICTE approved cour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25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7200" y="151920"/>
            <a:ext cx="8229600" cy="6705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xed Personal Allowance (F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f 01/08/2012, the entire amount of FPA shall reckon as basic pay for the purpose of HRA, PF, Pension, Gratuity and encashment of earned leave (will not count for DA)</a:t>
            </a:r>
            <a:endParaRPr b="0" lang="en-US" sz="2400" spc="-1" strike="noStrike">
              <a:solidFill>
                <a:srgbClr val="000000"/>
              </a:solidFill>
              <a:latin typeface="Calibri"/>
            </a:endParaRPr>
          </a:p>
        </p:txBody>
      </p:sp>
      <p:graphicFrame>
        <p:nvGraphicFramePr>
          <p:cNvPr id="168" name=""/>
          <p:cNvGraphicFramePr/>
          <p:nvPr/>
        </p:nvGraphicFramePr>
        <p:xfrm>
          <a:off x="914400" y="838080"/>
          <a:ext cx="7086600" cy="2676600"/>
        </p:xfrm>
        <a:graphic>
          <a:graphicData uri="http://schemas.openxmlformats.org/drawingml/2006/table">
            <a:tbl>
              <a:tblPr/>
              <a:tblGrid>
                <a:gridCol w="762120"/>
                <a:gridCol w="3962160"/>
                <a:gridCol w="2362320"/>
              </a:tblGrid>
              <a:tr h="914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fficers in the scale of pay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s on 1.11.199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Fixed Personal Allowance (FP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439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nior Assistant/Steno/Assista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rd Cler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8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39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i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441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Subordinate Staff</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6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52280" y="151920"/>
            <a:ext cx="8763120" cy="662940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Transport Allowance – Rs.680 per mon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Conveyance Allowance for PwD – Rs.400 per mon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Washing Allowance for Cl IV – Rs.355 per mont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rovident Fund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Employees appointed before 01/01/2004 -10% of basic p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includes FPA als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Employees joined between 01/01/2004  - 10% of basic pa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nd 31/03/201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Employees joined after                      - No recovery.  Cover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31/03/2010                                            under N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umpsum medical benefit (Basic Pay as on 1</a:t>
            </a:r>
            <a:r>
              <a:rPr b="0" lang="en-US" sz="2400" spc="-1" strike="noStrike" baseline="30000">
                <a:solidFill>
                  <a:srgbClr val="898989"/>
                </a:solidFill>
                <a:latin typeface="Calibri"/>
              </a:rPr>
              <a:t>st</a:t>
            </a:r>
            <a:r>
              <a:rPr b="0" lang="en-US" sz="2400" spc="-1" strike="noStrike">
                <a:solidFill>
                  <a:srgbClr val="898989"/>
                </a:solidFill>
                <a:latin typeface="Calibri"/>
              </a:rPr>
              <a:t> Jan) – Rs.9800/-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Calibri"/>
              </a:rPr>
              <a:t>Functional Allowance to Audit Assistant – Rs.1200/-</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28600" y="152280"/>
            <a:ext cx="800100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ll Station Allowance (HSA)</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1" name=""/>
          <p:cNvGraphicFramePr/>
          <p:nvPr/>
        </p:nvGraphicFramePr>
        <p:xfrm>
          <a:off x="1066680" y="685800"/>
          <a:ext cx="7086600" cy="5029200"/>
        </p:xfrm>
        <a:graphic>
          <a:graphicData uri="http://schemas.openxmlformats.org/drawingml/2006/table">
            <a:tbl>
              <a:tblPr/>
              <a:tblGrid>
                <a:gridCol w="797040"/>
                <a:gridCol w="3394080"/>
                <a:gridCol w="289548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N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ight of Place of pos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bove Mean Sea Leve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 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100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 meters and over but less than 1500 me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rcara and places which are specifical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lared as "Hill Stations" by Central/ Stat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for their employe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the Basic Salary subject to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less than 750 meters and surrounded by 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essible only through hills with a height of 100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ters and ov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of Basic Salary subject to a maximum o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790/- per mon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72" name="TextBox 3"/>
          <p:cNvSpPr/>
          <p:nvPr/>
        </p:nvSpPr>
        <p:spPr>
          <a:xfrm>
            <a:off x="380880" y="5791320"/>
            <a:ext cx="762012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Kit Allowance : Rs.2250/-</a:t>
            </a:r>
            <a:endParaRPr b="0" lang="en-US" sz="1800" spc="-1" strike="noStrike">
              <a:solidFill>
                <a:srgbClr val="000000"/>
              </a:solidFill>
              <a:latin typeface="Calibri"/>
            </a:endParaRPr>
          </a:p>
        </p:txBody>
      </p:sp>
      <p:sp>
        <p:nvSpPr>
          <p:cNvPr id="173" name="TextBox 4"/>
          <p:cNvSpPr/>
          <p:nvPr/>
        </p:nvSpPr>
        <p:spPr>
          <a:xfrm>
            <a:off x="380880" y="6248520"/>
            <a:ext cx="7315200" cy="3682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adeep Port Allowance : Rs.265 pm (Not treated as B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Box 2"/>
          <p:cNvSpPr/>
          <p:nvPr/>
        </p:nvSpPr>
        <p:spPr>
          <a:xfrm>
            <a:off x="533520" y="152280"/>
            <a:ext cx="7543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Savings Linked Insurance (GSLI) – 20/11/1988 &amp; Group Term Linked Insurance (GTIS) – GTIS – 01/10/199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5" name=""/>
          <p:cNvGraphicFramePr/>
          <p:nvPr/>
        </p:nvGraphicFramePr>
        <p:xfrm>
          <a:off x="1523880" y="685800"/>
          <a:ext cx="5131080" cy="1854360"/>
        </p:xfrm>
        <a:graphic>
          <a:graphicData uri="http://schemas.openxmlformats.org/drawingml/2006/table">
            <a:tbl>
              <a:tblPr/>
              <a:tblGrid>
                <a:gridCol w="1143000"/>
                <a:gridCol w="398808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egor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vised Basic Pay range (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I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5351 to 928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351 to 75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686 to 403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to 21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76" name="TextBox 4"/>
          <p:cNvSpPr/>
          <p:nvPr/>
        </p:nvSpPr>
        <p:spPr>
          <a:xfrm>
            <a:off x="609480" y="2895480"/>
            <a:ext cx="723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Group Mediclaim Policy </a:t>
            </a:r>
            <a:endParaRPr b="0" lang="en-US" sz="1800" spc="-1" strike="noStrike">
              <a:solidFill>
                <a:srgbClr val="000000"/>
              </a:solidFill>
              <a:latin typeface="Calibri"/>
            </a:endParaRPr>
          </a:p>
        </p:txBody>
      </p:sp>
      <p:graphicFrame>
        <p:nvGraphicFramePr>
          <p:cNvPr id="177" name=""/>
          <p:cNvGraphicFramePr/>
          <p:nvPr/>
        </p:nvGraphicFramePr>
        <p:xfrm>
          <a:off x="1143000" y="3429000"/>
          <a:ext cx="6095880" cy="1752480"/>
        </p:xfrm>
        <a:graphic>
          <a:graphicData uri="http://schemas.openxmlformats.org/drawingml/2006/table">
            <a:tbl>
              <a:tblPr/>
              <a:tblGrid>
                <a:gridCol w="3048120"/>
                <a:gridCol w="30477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tegory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um Insur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evised basic pay ran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5,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ss than 672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6,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tween 67265 to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s. 10,00,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bove 8592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
        <p:nvSpPr>
          <p:cNvPr id="178" name="TextBox 6"/>
          <p:cNvSpPr/>
          <p:nvPr/>
        </p:nvSpPr>
        <p:spPr>
          <a:xfrm>
            <a:off x="685800" y="563868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mployees under Suspension – May be allowed fixation and arrears may be paid and subsistence allowance r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EAVE RULES</a:t>
            </a:r>
            <a:endParaRPr b="0" lang="en-US" sz="4400" spc="-1" strike="noStrike">
              <a:solidFill>
                <a:srgbClr val="000000"/>
              </a:solidFill>
              <a:latin typeface="Calibri"/>
            </a:endParaRPr>
          </a:p>
        </p:txBody>
      </p:sp>
      <p:sp>
        <p:nvSpPr>
          <p:cNvPr id="180" name="Text Box 2"/>
          <p:cNvSpPr/>
          <p:nvPr/>
        </p:nvSpPr>
        <p:spPr>
          <a:xfrm>
            <a:off x="457200" y="1143000"/>
            <a:ext cx="8229600" cy="51894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LUBBING OF LEAVE NOT PERMITTED EXCEPT</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EXAMN LEAVE/LOP/QUARANTINE</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PL </a:t>
            </a:r>
            <a:r>
              <a:rPr b="1"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LOP/SL/ML/EXAM LEAVE</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SL </a:t>
            </a:r>
            <a:r>
              <a:rPr b="0" lang="en-US" sz="3200" spc="-1" strike="noStrike">
                <a:solidFill>
                  <a:srgbClr val="ff0000"/>
                </a:solidFill>
                <a:latin typeface="Calibri"/>
                <a:ea typeface="Microsoft YaHei"/>
              </a:rPr>
              <a:t>with</a:t>
            </a:r>
            <a:r>
              <a:rPr b="0" lang="en-US" sz="3200" spc="-1" strike="noStrike">
                <a:solidFill>
                  <a:srgbClr val="000000"/>
                </a:solidFill>
                <a:latin typeface="Calibri"/>
                <a:ea typeface="Microsoft YaHei"/>
              </a:rPr>
              <a:t> PL/LOP/ML/QURANTINE</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EXAM LEAVE </a:t>
            </a:r>
            <a:r>
              <a:rPr b="1" lang="en-US" sz="3200" spc="-1" strike="noStrike">
                <a:solidFill>
                  <a:srgbClr val="ff0000"/>
                </a:solidFill>
                <a:latin typeface="Calibri"/>
                <a:ea typeface="Microsoft YaHei"/>
              </a:rPr>
              <a:t>with</a:t>
            </a:r>
            <a:r>
              <a:rPr b="0" lang="en-US" sz="2800" spc="-1" strike="noStrike">
                <a:solidFill>
                  <a:srgbClr val="000000"/>
                </a:solidFill>
                <a:latin typeface="Calibri"/>
                <a:ea typeface="Microsoft YaHei"/>
              </a:rPr>
              <a:t> CL/PL/ML/LOP/QUARANTINE</a:t>
            </a:r>
            <a:endParaRPr b="0" lang="en-US" sz="28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12 DAYS CL, 2 DAYS RH MAX. CL AT A TIME 5</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OF YEAR –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30 – no. of days of CL</a:t>
            </a: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3. Genera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very employee shall at all tim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 maintain absolute integrit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 maintain devotion to dut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ii) do nothing which is unbecoming of a public servant;</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v) conform to and abide by these Rules given to him</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ule 4 – Misconduc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FT, FRAUD OR DISHONESTY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ING BRIBES OR ILLEGAL GRATIFIC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SESSION OF PECUNIARY RESOURCES OR PROPERTY DISPROPORTIONATE TO THE KNOWN SOURCES OF INCOM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RNISHING FALSE INFORMATIO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2Leave rules (contd)</a:t>
            </a:r>
            <a:endParaRPr b="0" lang="en-US" sz="4400" spc="-1" strike="noStrike">
              <a:solidFill>
                <a:srgbClr val="000000"/>
              </a:solidFill>
              <a:latin typeface="Calibri"/>
            </a:endParaRPr>
          </a:p>
        </p:txBody>
      </p:sp>
      <p:sp>
        <p:nvSpPr>
          <p:cNvPr id="18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LOP WILL NOT AFFECT CALCULATION OF CL</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HALF DAY CL FOR MAX. OF 6 OCCASION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TERVENING HOLIDAYS BETWEEN 2 CL NOT TO BE COUNTED AS LEAVE</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RH – 2DAYS – TO BE INFORMED AT THE BEGINNING OF YEAR</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L – 1 DAY FOR EVERY 11 DAYS OF DUTY</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DUTY EXCLUDES LOP,SL,ML</a:t>
            </a:r>
            <a:endParaRPr b="0" lang="en-US" sz="32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3LEAVE RULES (CONTD)</a:t>
            </a:r>
            <a:br>
              <a:rPr sz="4400"/>
            </a:br>
            <a:endParaRPr b="0" lang="en-US" sz="4400" spc="-1" strike="noStrike">
              <a:solidFill>
                <a:srgbClr val="000000"/>
              </a:solidFill>
              <a:latin typeface="Calibri"/>
            </a:endParaRPr>
          </a:p>
        </p:txBody>
      </p:sp>
      <p:sp>
        <p:nvSpPr>
          <p:cNvPr id="184"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L MIN.6 DAYS MAX. 120 DAYS AT A TIME. ACCUMULATION MAX. UPTO 270 DAYS </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HORT TERM PL FOR 2 OCCASIONS IN A YEAR</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L – 30 DAYS (HF BASIS). MAX. 240 DAYS ACCUMULATION. MEDICAL CERTIFICATE REQUIRED FOR SANCTION OF SL</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JOINING IN MIDDLE DOJ TO 31</a:t>
            </a:r>
            <a:r>
              <a:rPr b="0" lang="en-US" sz="3200" spc="-1" strike="noStrike" baseline="30000">
                <a:solidFill>
                  <a:srgbClr val="000000"/>
                </a:solidFill>
                <a:latin typeface="Calibri"/>
                <a:ea typeface="Microsoft YaHei"/>
              </a:rPr>
              <a:t>ST</a:t>
            </a:r>
            <a:r>
              <a:rPr b="0" lang="en-US" sz="3200" spc="-1" strike="noStrike">
                <a:solidFill>
                  <a:srgbClr val="000000"/>
                </a:solidFill>
                <a:latin typeface="Calibri"/>
                <a:ea typeface="Microsoft YaHei"/>
              </a:rPr>
              <a:t> DEC DIVIDED BY 12 = NO. OF DAYS OF SL CREDITED</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4LEAVE RULES CONTD..)</a:t>
            </a:r>
            <a:endParaRPr b="0" lang="en-US" sz="4400" spc="-1" strike="noStrike">
              <a:solidFill>
                <a:srgbClr val="000000"/>
              </a:solidFill>
              <a:latin typeface="Calibri"/>
            </a:endParaRPr>
          </a:p>
        </p:txBody>
      </p:sp>
      <p:sp>
        <p:nvSpPr>
          <p:cNvPr id="186" name="Text Box 2"/>
          <p:cNvSpPr/>
          <p:nvPr/>
        </p:nvSpPr>
        <p:spPr>
          <a:xfrm>
            <a:off x="457200" y="1600200"/>
            <a:ext cx="8229600" cy="48798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SL </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ON HALF PAY BASIS FOR 6 MONTH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THIRTEEN MAJOR DISEASE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 SL TO BE EXHAUSTED</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L – ALLOWED FOR FEMALE EMPLOYEES WITH LESS THAN 3 LIVING CHILDREN</a:t>
            </a:r>
            <a:endParaRPr b="0" lang="en-US" sz="32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AX. 180 DAYS FOR EACH DELIVERY AND MAX. 12 MONTHS IN SERVICE (INCL. MISCARRIAGE LEAVE)</a:t>
            </a:r>
            <a:endParaRPr b="0" lang="en-US" sz="2800" spc="-1" strike="noStrike">
              <a:solidFill>
                <a:srgbClr val="000000"/>
              </a:solidFill>
              <a:latin typeface="Calibri"/>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5LEAVE RULES(CONTD)</a:t>
            </a:r>
            <a:br>
              <a:rPr sz="4400"/>
            </a:br>
            <a:endParaRPr b="0" lang="en-US" sz="4400" spc="-1" strike="noStrike">
              <a:solidFill>
                <a:srgbClr val="000000"/>
              </a:solidFill>
              <a:latin typeface="Calibri"/>
            </a:endParaRPr>
          </a:p>
        </p:txBody>
      </p:sp>
      <p:sp>
        <p:nvSpPr>
          <p:cNvPr id="188" name="Text Box 2"/>
          <p:cNvSpPr/>
          <p:nvPr/>
        </p:nvSpPr>
        <p:spPr>
          <a:xfrm>
            <a:off x="457200" y="1600200"/>
            <a:ext cx="8305920" cy="50292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ISCARRIAGE LEAVE CAN BE GRANTED ONLY IF EMPLOYEE IS ENTITLED FOR ML (Miscarriage means expulsion between 12 to 26 week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MAX. 6 WEEKS. </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DOPTION LEAVE – 2 MONTHS. ALLOWED FOR FEMALE EMPLOYEE WITHOUT CHILD</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HILD IS BELOW ONE YEAR OF AGE</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
          <p:cNvSpPr/>
          <p:nvPr/>
        </p:nvSpPr>
        <p:spPr>
          <a:xfrm>
            <a:off x="457200" y="130320"/>
            <a:ext cx="8229600" cy="14317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6LEAVE RULES</a:t>
            </a:r>
            <a:br>
              <a:rPr sz="4400"/>
            </a:br>
            <a:endParaRPr b="0" lang="en-US" sz="4400" spc="-1" strike="noStrike">
              <a:solidFill>
                <a:srgbClr val="000000"/>
              </a:solidFill>
              <a:latin typeface="Calibri"/>
            </a:endParaRPr>
          </a:p>
        </p:txBody>
      </p:sp>
      <p:sp>
        <p:nvSpPr>
          <p:cNvPr id="19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fontScale="94000"/>
          </a:bodyPr>
          <a:p>
            <a:pPr marL="317520" indent="-31752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XAM LEAVE FOR INSURANCE/CA/ICWA/ACTUARIES/LONDON INSTITUTE/MBA.</a:t>
            </a:r>
            <a:endParaRPr b="0" lang="en-US" sz="3200" spc="-1" strike="noStrike">
              <a:solidFill>
                <a:srgbClr val="000000"/>
              </a:solidFill>
              <a:latin typeface="Calibri"/>
            </a:endParaRPr>
          </a:p>
          <a:p>
            <a:pPr marL="317520" indent="-31752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ALLOWED FOR DATE OF EXAM AND MIN. JOURNEY TIME</a:t>
            </a:r>
            <a:endParaRPr b="0" lang="en-US" sz="3200" spc="-1" strike="noStrike">
              <a:solidFill>
                <a:srgbClr val="000000"/>
              </a:solidFill>
              <a:latin typeface="Calibri"/>
            </a:endParaRPr>
          </a:p>
          <a:p>
            <a:pPr marL="317520" indent="-31752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QUARANTINE LEAVE – ALLOWED IF FAMILY OF EMPLOYEE SUFFER FROM QUARANTINE DISEASE.  EMPLOYEE SUFFERING FROM ANY SUCH DISEASE IS NOT ELIGIBLE FOR QUARANTINE LEAVE</a:t>
            </a:r>
            <a:endParaRPr b="0" lang="en-US" sz="3200" spc="-1" strike="noStrike">
              <a:solidFill>
                <a:srgbClr val="0000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7LEAVE RULES</a:t>
            </a:r>
            <a:endParaRPr b="0" lang="en-US" sz="4400" spc="-1" strike="noStrike">
              <a:solidFill>
                <a:srgbClr val="000000"/>
              </a:solidFill>
              <a:latin typeface="Calibri"/>
            </a:endParaRPr>
          </a:p>
        </p:txBody>
      </p:sp>
      <p:sp>
        <p:nvSpPr>
          <p:cNvPr id="19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PECIAL LEAVE</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6 DAYS FOR VASECTOMY/SALPINGECTOMY</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FEMALE EMPLOYEE PUERPERAL AND NON PUERPERAL STERILISATION</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 DAY – IUCD INSERTION</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5 DAYS CAMP DUTY FOR HOME GUARD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INSURANCE INVIGILATION – 3DAYS IN ONE OCCASION AND 7 DAYS IN A YEAR</a:t>
            </a:r>
            <a:endParaRPr b="0" lang="en-US" sz="32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8LEAVE RULES</a:t>
            </a:r>
            <a:endParaRPr b="0" lang="en-US" sz="4400" spc="-1" strike="noStrike">
              <a:solidFill>
                <a:srgbClr val="000000"/>
              </a:solidFill>
              <a:latin typeface="Calibri"/>
            </a:endParaRPr>
          </a:p>
        </p:txBody>
      </p:sp>
      <p:sp>
        <p:nvSpPr>
          <p:cNvPr id="19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30 DAYS FOR SPORTS NATIONAL OR INTERNATIONAL LEVEL</a:t>
            </a:r>
            <a:r>
              <a:rPr b="0" lang="en-US" sz="2800" spc="-1" strike="noStrike">
                <a:solidFill>
                  <a:srgbClr val="000000"/>
                </a:solidFill>
                <a:latin typeface="Calibri"/>
                <a:ea typeface="Microsoft YaHei"/>
              </a:rPr>
              <a:t>(INCL.MOUNTENEERING</a:t>
            </a:r>
            <a:r>
              <a:rPr b="0" lang="en-US" sz="3200" spc="-1" strike="noStrike">
                <a:solidFill>
                  <a:srgbClr val="000000"/>
                </a:solidFill>
                <a:latin typeface="Calibri"/>
                <a:ea typeface="Microsoft YaHei"/>
              </a:rPr>
              <a:t>)</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0 DAYS FOR LOCAL SPORTS EVENT</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PARTICIPATION MEANS REFEREE/UMPIRE NOT MANAGERS/OFFICE BEARERS</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25 DAYS FOR REPUBLIC DAY PARADE</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BLOOD DONATION – 10 DAYS IN A YEAR</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14 DAYS FOR TERRITORIAL ARMY</a:t>
            </a:r>
            <a:endParaRPr b="0" lang="en-US" sz="3200" spc="-1" strike="noStrike">
              <a:solidFill>
                <a:srgbClr val="0000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52280"/>
            <a:ext cx="8229600" cy="5973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ERNITY LEAVE – MALE EMPLOYEE HAVING LESS THAN 2 LIVING CHILDREN MAY BE GRANTED 15 DAYS LEAV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VE CAN BE AVAILED DURING CONFINEMENT OF HIS WIFE, COMMENCING 15 DAYS BEFORE AND ENDING 6 MONTHS AFTER DATE OF DELIVERY.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AVAILED FOR ADOPTION OF CHILD LESS THAN 1 YEAR.  CAN BE COMBINED WITH ANY OTHER LEAVE EXCEPT C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2.9. LEAVE ON LOSS OF PAY</a:t>
            </a:r>
            <a:endParaRPr b="0" lang="en-US" sz="4400" spc="-1" strike="noStrike">
              <a:solidFill>
                <a:srgbClr val="000000"/>
              </a:solidFill>
              <a:latin typeface="Calibri"/>
            </a:endParaRPr>
          </a:p>
        </p:txBody>
      </p:sp>
      <p:sp>
        <p:nvSpPr>
          <p:cNvPr id="197" name="Text Box 2"/>
          <p:cNvSpPr/>
          <p:nvPr/>
        </p:nvSpPr>
        <p:spPr>
          <a:xfrm>
            <a:off x="457200" y="1417680"/>
            <a:ext cx="8305920" cy="4948200"/>
          </a:xfrm>
          <a:prstGeom prst="rect">
            <a:avLst/>
          </a:prstGeom>
          <a:noFill/>
          <a:ln w="0">
            <a:noFill/>
          </a:ln>
        </p:spPr>
        <p:style>
          <a:lnRef idx="0"/>
          <a:fillRef idx="0"/>
          <a:effectRef idx="0"/>
          <a:fontRef idx="minor"/>
        </p:style>
        <p:txBody>
          <a:bodyPr lIns="90000" rIns="90000" tIns="46800" bIns="46800" anchor="t">
            <a:normAutofit fontScale="96000"/>
          </a:bodyPr>
          <a:p>
            <a:pPr marL="324360" indent="-32436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CAN BE GRANTED WHEN NO LEAVE IS DUE</a:t>
            </a:r>
            <a:endParaRPr b="0" lang="en-US" sz="3200" spc="-1" strike="noStrike">
              <a:solidFill>
                <a:srgbClr val="000000"/>
              </a:solidFill>
              <a:latin typeface="Calibri"/>
            </a:endParaRPr>
          </a:p>
          <a:p>
            <a:pPr marL="324360" indent="-32436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UPTO 90 DAYS – REG. CHIEF UPTO 180 DAYS –GM (for Scale IV &amp; below) Other cases - CMD</a:t>
            </a:r>
            <a:endParaRPr b="0" lang="en-US" sz="3200" spc="-1" strike="noStrike">
              <a:solidFill>
                <a:srgbClr val="000000"/>
              </a:solidFill>
              <a:latin typeface="Calibri"/>
            </a:endParaRPr>
          </a:p>
          <a:p>
            <a:pPr marL="324360" indent="-32436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LOP WILL POSTPONE THE INCREMENT</a:t>
            </a:r>
            <a:endParaRPr b="0" lang="en-US" sz="2400" spc="-1" strike="noStrike">
              <a:solidFill>
                <a:srgbClr val="000000"/>
              </a:solidFill>
              <a:latin typeface="Calibri"/>
            </a:endParaRPr>
          </a:p>
          <a:p>
            <a:pPr marL="324360" indent="-32436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STUDY LEAVE – ONE YEAR MAX. FOR DOING MANAGEMENT AND ALLIED SUBJECTS</a:t>
            </a:r>
            <a:endParaRPr b="0" lang="en-US" sz="3200" spc="-1" strike="noStrike">
              <a:solidFill>
                <a:srgbClr val="000000"/>
              </a:solidFill>
              <a:latin typeface="Calibri"/>
            </a:endParaRPr>
          </a:p>
          <a:p>
            <a:pPr marL="324360" indent="-32436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MIN. 5 YEARS OF SERVICE SHOULD HAVE BEEN COMPLETED IN THE COMPANY</a:t>
            </a:r>
            <a:endParaRPr b="0" lang="en-US" sz="2800" spc="-1" strike="noStrike">
              <a:solidFill>
                <a:srgbClr val="000000"/>
              </a:solidFill>
              <a:latin typeface="Calibri"/>
            </a:endParaRPr>
          </a:p>
          <a:p>
            <a:pPr marL="324360" indent="-32436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CMD IS THE COMPETENT AUTHORITY</a:t>
            </a:r>
            <a:endParaRPr b="0" lang="en-US" sz="2800" spc="-1" strike="noStrike">
              <a:solidFill>
                <a:srgbClr val="000000"/>
              </a:solidFill>
              <a:latin typeface="Calibri"/>
            </a:endParaRPr>
          </a:p>
          <a:p>
            <a:pPr marL="324360" indent="-32436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T APPLICABLE TO SCS STAFF</a:t>
            </a:r>
            <a:endParaRPr b="0" lang="en-US" sz="2800" spc="-1" strike="noStrike">
              <a:solidFill>
                <a:srgbClr val="0000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 TRAVEL RULES</a:t>
            </a:r>
            <a:endParaRPr b="0" lang="en-US" sz="4400" spc="-1" strike="noStrike">
              <a:solidFill>
                <a:srgbClr val="000000"/>
              </a:solidFill>
              <a:latin typeface="Calibri"/>
            </a:endParaRPr>
          </a:p>
        </p:txBody>
      </p:sp>
      <p:graphicFrame>
        <p:nvGraphicFramePr>
          <p:cNvPr id="199" name=""/>
          <p:cNvGraphicFramePr/>
          <p:nvPr/>
        </p:nvGraphicFramePr>
        <p:xfrm>
          <a:off x="457200" y="914400"/>
          <a:ext cx="8258040" cy="5821200"/>
        </p:xfrm>
        <a:graphic>
          <a:graphicData uri="http://schemas.openxmlformats.org/drawingml/2006/table">
            <a:tbl>
              <a:tblPr/>
              <a:tblGrid>
                <a:gridCol w="3505320"/>
                <a:gridCol w="1600200"/>
                <a:gridCol w="3152520"/>
              </a:tblGrid>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MOD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r>
              <a:tr h="4050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V,VI, V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TRAIN</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r>
              <a:tr h="40320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V</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IR/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ECONOMY/II AC</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1617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CALE I II II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 IN </a:t>
                      </a:r>
                      <a:r>
                        <a:rPr b="0" lang="en-US" sz="1600" spc="-1" strike="noStrike">
                          <a:solidFill>
                            <a:srgbClr val="000000"/>
                          </a:solidFill>
                          <a:latin typeface="Calibri"/>
                          <a:ea typeface="Microsoft YaHei"/>
                        </a:rPr>
                        <a:t>RAJDHANI &amp; II AC OR I CLASS, NOT TO EXCEED 125% OF RAIL FARE IF AIR TRAVEL IS MADE, BY AIR IF SURFACE DISTANCE IS BEYOND 1000 KMS (FOR SC II AND III ONLY)</a:t>
                      </a: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706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 – BASIC 36440  AND ABOV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AC/ICLASS/3</a:t>
                      </a:r>
                      <a:r>
                        <a:rPr b="0" lang="en-US" sz="1800" spc="-1" strike="noStrike" baseline="30000">
                          <a:solidFill>
                            <a:srgbClr val="000000"/>
                          </a:solidFill>
                          <a:latin typeface="Calibri"/>
                          <a:ea typeface="Microsoft YaHei"/>
                        </a:rPr>
                        <a:t>RD</a:t>
                      </a:r>
                      <a:r>
                        <a:rPr b="0" lang="en-US" sz="1800" spc="-1" strike="noStrike">
                          <a:solidFill>
                            <a:srgbClr val="000000"/>
                          </a:solidFill>
                          <a:latin typeface="Calibri"/>
                          <a:ea typeface="Microsoft YaHei"/>
                        </a:rPr>
                        <a:t> AC IN RAJDHANI</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127476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BELOW 3644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AI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I CLASS. CLERICAL EMPLOYEES PERMITTED TO GO BY ICLASS/II AC WHERE NIGHT JOURNEY IS INVOLVED</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10112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TOUR STARTS FROM SCHEDULED DEPARTURE TIM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52280" y="151920"/>
            <a:ext cx="8839440" cy="662940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NG IN A MANNER PREJUDICIAL TO THE INTEREST OF THE COMPANY</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FUL INSUBORDINATION OR DISOBEDIENC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ENCE WITHOUT LEAVE OR OVER-STAYING SANCTIONED LEAVE – </a:t>
            </a:r>
            <a:r>
              <a:rPr b="1" lang="en-US" sz="2400" spc="-1" strike="noStrike" u="sng">
                <a:solidFill>
                  <a:srgbClr val="000000"/>
                </a:solidFill>
                <a:uFillTx/>
                <a:latin typeface="Calibri"/>
              </a:rPr>
              <a:t>FOR MORE THAN 4 CONSEQUETIVE DAYS</a:t>
            </a:r>
            <a:r>
              <a:rPr b="0" lang="en-US" sz="2400" spc="-1" strike="noStrike">
                <a:solidFill>
                  <a:srgbClr val="000000"/>
                </a:solidFill>
                <a:latin typeface="Calibri"/>
              </a:rPr>
              <a:t> WITHOUT SUFFICIENT GROUNDS OR PROPER SATISFACTORY EXPLANATION</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BITUAL LATE OR IRREGULAR ATTENDANC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LECT OF WORK OR NEGLIGENCE IN THE PERFORMANCE OF DUTY INCLUDING MALINGERING OR SLOWING DOWN OF WORK</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MAGE TO ANY PROPERTY OF COMPANY</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FERENCE OR TAMPERING WITH ANY SAFETY DEVIC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UNKENNESS OR RIOTOUS OR DISORDERLY OR INDECENT BEHAVIOUR IN THE PREMIS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BLING</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ECTION WITHOUT THE PERMISSION OF THE COMPETENT AUTHOIRY</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457200" y="0"/>
            <a:ext cx="8229600" cy="709560"/>
          </a:xfrm>
          <a:prstGeom prst="rect">
            <a:avLst/>
          </a:prstGeom>
          <a:noFill/>
          <a:ln w="0">
            <a:noFill/>
          </a:ln>
        </p:spPr>
        <p:style>
          <a:lnRef idx="0"/>
          <a:fillRef idx="0"/>
          <a:effectRef idx="0"/>
          <a:fontRef idx="minor"/>
        </p:style>
        <p:txBody>
          <a:bodyPr lIns="90000" rIns="90000" tIns="46800" bIns="46800" anchor="ctr">
            <a:normAutofit fontScale="91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2 TRAVEL RULES</a:t>
            </a:r>
            <a:endParaRPr b="0" lang="en-US" sz="4400" spc="-1" strike="noStrike">
              <a:solidFill>
                <a:srgbClr val="000000"/>
              </a:solidFill>
              <a:latin typeface="Calibri"/>
            </a:endParaRPr>
          </a:p>
        </p:txBody>
      </p:sp>
      <p:graphicFrame>
        <p:nvGraphicFramePr>
          <p:cNvPr id="201" name=""/>
          <p:cNvGraphicFramePr/>
          <p:nvPr/>
        </p:nvGraphicFramePr>
        <p:xfrm>
          <a:off x="457200" y="762120"/>
          <a:ext cx="8231040" cy="5867280"/>
        </p:xfrm>
        <a:graphic>
          <a:graphicData uri="http://schemas.openxmlformats.org/drawingml/2006/table">
            <a:tbl>
              <a:tblPr/>
              <a:tblGrid>
                <a:gridCol w="2743200"/>
                <a:gridCol w="2744640"/>
                <a:gridCol w="27432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CADR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LIMI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ONVEY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CTUALS –RES TO STATION TO AND FR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STRICTED TO HALT. ALLOWANCE FOR ‘C” CLAS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INCIDENTI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MAX. HALF OF ‘C’ CLASS FOR EACH COMP. JOURNE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CLERICAL</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NO</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6638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HALTING ALLOWAN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2 HOURS AND ABOVE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100%</a:t>
                      </a:r>
                      <a:endParaRPr b="0" lang="en-US" sz="18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852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Calibri"/>
                          <a:ea typeface="Microsoft YaHei"/>
                        </a:rPr>
                        <a:t>FREE B/L- 25%; FREE B- 50% FREE LODGING – 75%</a:t>
                      </a:r>
                      <a:endParaRPr b="0" lang="en-US" sz="1600" spc="-1" strike="noStrike">
                        <a:solidFill>
                          <a:srgbClr val="000000"/>
                        </a:solidFill>
                        <a:latin typeface="Calibri"/>
                      </a:endParaRPr>
                    </a:p>
                    <a:p>
                      <a:pPr>
                        <a:lnSpc>
                          <a:spcPct val="10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6 HOURS TO 12 HOU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5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652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LESS THAN 6 HOURS  </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30%</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94932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REAK FAS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OFFICERS – ACTUAL CLERICAL – (HOTEL CHARGE INCL. B/F</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457200" y="0"/>
            <a:ext cx="8229600" cy="76212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3.3. TRAVEL RULES</a:t>
            </a:r>
            <a:endParaRPr b="0" lang="en-US" sz="4400" spc="-1" strike="noStrike">
              <a:solidFill>
                <a:srgbClr val="000000"/>
              </a:solidFill>
              <a:latin typeface="Calibri"/>
            </a:endParaRPr>
          </a:p>
        </p:txBody>
      </p:sp>
      <p:sp>
        <p:nvSpPr>
          <p:cNvPr id="203" name="Text Box 2"/>
          <p:cNvSpPr/>
          <p:nvPr/>
        </p:nvSpPr>
        <p:spPr>
          <a:xfrm>
            <a:off x="228600" y="685800"/>
            <a:ext cx="8763120" cy="61722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ON TRAINING – UPTO 180 DAYS – FULL RATE BEYOND THAT HALF RATE</a:t>
            </a:r>
            <a:endParaRPr b="0" lang="en-US" sz="24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HALTING ALLOWANCE REVISED FROM 05/01/2017</a:t>
            </a:r>
            <a:endParaRPr b="0" lang="en-US" sz="2000" spc="-1" strike="noStrike">
              <a:solidFill>
                <a:srgbClr val="000000"/>
              </a:solidFill>
              <a:latin typeface="Calibri"/>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spcBef>
                <a:spcPts val="700"/>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4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N TOUR- IF CL-NO H.A, IF SICK LEAVE – NO H.A,RETURN JOURNEY FARE ALLOWED</a:t>
            </a:r>
            <a:endParaRPr b="0" lang="en-US" sz="2000" spc="-1" strike="noStrike">
              <a:solidFill>
                <a:srgbClr val="000000"/>
              </a:solidFill>
              <a:latin typeface="Calibri"/>
            </a:endParaRPr>
          </a:p>
          <a:p>
            <a:pPr marL="338040" indent="-338040">
              <a:spcBef>
                <a:spcPts val="601"/>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LOK ADALAT RS.1000/- AT THE PLACE OF POSTING,OTHER PLACES T.A,D.A ALLOWED + 500/- OUT OF POCKET EXPENSES</a:t>
            </a:r>
            <a:endParaRPr b="0" lang="en-US" sz="2000" spc="-1" strike="noStrike">
              <a:solidFill>
                <a:srgbClr val="000000"/>
              </a:solidFill>
              <a:latin typeface="Calibri"/>
            </a:endParaRPr>
          </a:p>
          <a:p>
            <a:pPr marL="338040" indent="-338040">
              <a:spcBef>
                <a:spcPts val="601"/>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2000" spc="-1" strike="noStrike">
              <a:solidFill>
                <a:srgbClr val="000000"/>
              </a:solidFill>
              <a:latin typeface="Calibri"/>
            </a:endParaRPr>
          </a:p>
        </p:txBody>
      </p:sp>
      <p:pic>
        <p:nvPicPr>
          <p:cNvPr id="204" name="Picture 2" descr=""/>
          <p:cNvPicPr/>
          <p:nvPr/>
        </p:nvPicPr>
        <p:blipFill>
          <a:blip r:embed="rId1"/>
          <a:stretch/>
        </p:blipFill>
        <p:spPr>
          <a:xfrm>
            <a:off x="304920" y="1981080"/>
            <a:ext cx="8686800" cy="282276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304920"/>
            <a:ext cx="8229600" cy="58212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dging expenses w.e.f 01/01/2013</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06" name="Picture 2" descr=""/>
          <p:cNvPicPr/>
          <p:nvPr/>
        </p:nvPicPr>
        <p:blipFill>
          <a:blip r:embed="rId1"/>
          <a:stretch/>
        </p:blipFill>
        <p:spPr>
          <a:xfrm>
            <a:off x="457200" y="838080"/>
            <a:ext cx="8001000" cy="5105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457200" y="274680"/>
            <a:ext cx="8229600" cy="868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5 LEAVE ENCASHMENT</a:t>
            </a:r>
            <a:endParaRPr b="0" lang="en-US" sz="4400" spc="-1" strike="noStrike">
              <a:solidFill>
                <a:srgbClr val="000000"/>
              </a:solidFill>
              <a:latin typeface="Calibri"/>
            </a:endParaRPr>
          </a:p>
        </p:txBody>
      </p:sp>
      <p:graphicFrame>
        <p:nvGraphicFramePr>
          <p:cNvPr id="208" name=""/>
          <p:cNvGraphicFramePr/>
          <p:nvPr/>
        </p:nvGraphicFramePr>
        <p:xfrm>
          <a:off x="457200" y="1600200"/>
          <a:ext cx="8231040" cy="2465280"/>
        </p:xfrm>
        <a:graphic>
          <a:graphicData uri="http://schemas.openxmlformats.org/drawingml/2006/table">
            <a:tbl>
              <a:tblPr/>
              <a:tblGrid>
                <a:gridCol w="4116240"/>
                <a:gridCol w="4114800"/>
              </a:tblGrid>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ICULARS</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ffffff"/>
                          </a:solidFill>
                          <a:latin typeface="Calibri"/>
                          <a:ea typeface="Microsoft YaHei"/>
                        </a:rPr>
                        <a:t>PARTS OF SALARY</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fac090"/>
                    </a:solidFill>
                  </a:tcPr>
                </a:tc>
              </a:tr>
              <a:tr h="37944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SERVICE</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fac090"/>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RETIREMENT</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D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663480">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DEATH</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c>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BASIC +DA+HRA+CCA+FPA</a:t>
                      </a:r>
                      <a:endParaRPr b="0" lang="en-US" sz="1800" spc="-1" strike="noStrike">
                        <a:solidFill>
                          <a:srgbClr val="000000"/>
                        </a:solidFill>
                        <a:latin typeface="Calibri"/>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fac090"/>
                    </a:solidFill>
                  </a:tcPr>
                </a:tc>
              </a:tr>
              <a:tr h="379440">
                <a:tc gridSpan="2">
                  <a:txBody>
                    <a:bodyPr lIns="90000" rIns="90000" tIns="46800" bIns="468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ea typeface="Microsoft YaHei"/>
                        </a:rPr>
                        <a:t>ALLOWED ONCE IN  A BLOCK OF 2 YEARS. 15 DAYS CAN BE ENCASHED</a:t>
                      </a:r>
                      <a:endParaRPr b="0" lang="en-US" sz="1800" spc="-1" strike="noStrike">
                        <a:solidFill>
                          <a:srgbClr val="000000"/>
                        </a:solidFill>
                        <a:latin typeface="Calibri"/>
                      </a:endParaRPr>
                    </a:p>
                  </a:txBody>
                  <a:tcPr anchor="t" marL="90000" marR="90000">
                    <a:lnL w="720">
                      <a:solidFill>
                        <a:srgbClr val="ffffff"/>
                      </a:solidFill>
                    </a:lnL>
                    <a:lnR>
                      <a:noFill/>
                    </a:lnR>
                    <a:lnT w="720">
                      <a:solidFill>
                        <a:srgbClr val="ffffff"/>
                      </a:solidFill>
                    </a:lnT>
                    <a:lnB w="720">
                      <a:solidFill>
                        <a:srgbClr val="ffffff"/>
                      </a:solidFill>
                    </a:lnB>
                    <a:solidFill>
                      <a:srgbClr val="fac09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209" name="TextBox 1"/>
          <p:cNvSpPr/>
          <p:nvPr/>
        </p:nvSpPr>
        <p:spPr>
          <a:xfrm>
            <a:off x="457200" y="4495680"/>
            <a:ext cx="6781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ll employees – Even-Odd ye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L encashment – 240 days only</a:t>
            </a:r>
            <a:endParaRPr b="0" lang="en-US" sz="18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1 LTS</a:t>
            </a:r>
            <a:endParaRPr b="0" lang="en-US" sz="4400" spc="-1" strike="noStrike">
              <a:solidFill>
                <a:srgbClr val="000000"/>
              </a:solidFill>
              <a:latin typeface="Calibri"/>
            </a:endParaRPr>
          </a:p>
        </p:txBody>
      </p:sp>
      <p:sp>
        <p:nvSpPr>
          <p:cNvPr id="211" name="Text Box 2"/>
          <p:cNvSpPr/>
          <p:nvPr/>
        </p:nvSpPr>
        <p:spPr>
          <a:xfrm>
            <a:off x="457200" y="1600200"/>
            <a:ext cx="8229600" cy="54738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ONFIRMED EMPLOYEES ONLY</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FFICERS  ODD YEAR TO EVEN YEAR</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FOR CLERICAL –EVEN TO ODD YEAR</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MPLOYEE,SPOUSE,DEPENDANT CHILDREN AND DEPENDANT PARENTS ARE ELIGIBLE</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CE A BLOCK OF 2 YEARS. 3000KM EACH WAY.FOR HOME TOWN NO LIMIT.</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ENTITLED MODE OF JOURNEY AS PER TOUR</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6.2 LTS CONTINUED</a:t>
            </a:r>
            <a:endParaRPr b="0" lang="en-US" sz="4400" spc="-1" strike="noStrike">
              <a:solidFill>
                <a:srgbClr val="000000"/>
              </a:solidFill>
              <a:latin typeface="Calibri"/>
            </a:endParaRPr>
          </a:p>
        </p:txBody>
      </p:sp>
      <p:sp>
        <p:nvSpPr>
          <p:cNvPr id="213" name="Text Box 2"/>
          <p:cNvSpPr/>
          <p:nvPr/>
        </p:nvSpPr>
        <p:spPr>
          <a:xfrm>
            <a:off x="457200" y="1219320"/>
            <a:ext cx="8229600" cy="5410080"/>
          </a:xfrm>
          <a:prstGeom prst="rect">
            <a:avLst/>
          </a:prstGeom>
          <a:noFill/>
          <a:ln w="0">
            <a:noFill/>
          </a:ln>
        </p:spPr>
        <p:style>
          <a:lnRef idx="0"/>
          <a:fillRef idx="0"/>
          <a:effectRef idx="0"/>
          <a:fontRef idx="minor"/>
        </p:style>
        <p:txBody>
          <a:bodyPr lIns="90000" rIns="90000" tIns="46800" bIns="46800" anchor="t">
            <a:normAutofit fontScale="99000"/>
          </a:bodyPr>
          <a:p>
            <a:pPr marL="334440" indent="-3344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NE BLOCK CAN BE CARRIED FORWARD TO NEXT BLOCK- CLUBBING OF TWO BLOCKS ALLOWED</a:t>
            </a:r>
            <a:endParaRPr b="0" lang="en-US" sz="2800" spc="-1" strike="noStrike">
              <a:solidFill>
                <a:srgbClr val="000000"/>
              </a:solidFill>
              <a:latin typeface="Calibri"/>
            </a:endParaRPr>
          </a:p>
          <a:p>
            <a:pPr marL="334440" indent="-3344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VEL IN TWO GROUPS PERMITTED BUT SECOND GROUP SHOULD AVAIL IN THE BLOCK YEAR IN WHICH THE FIRST GROUP AVAILED.PARTIAL LTS CARRY FORWARD NOT ALLOWED</a:t>
            </a:r>
            <a:endParaRPr b="0" lang="en-US" sz="2800" spc="-1" strike="noStrike">
              <a:solidFill>
                <a:srgbClr val="000000"/>
              </a:solidFill>
              <a:latin typeface="Calibri"/>
            </a:endParaRPr>
          </a:p>
          <a:p>
            <a:pPr marL="334440" indent="-3344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OFFICERS TRANSFERRED TO  N.E REGION-LTS EVERY YEAR ALLOWED</a:t>
            </a:r>
            <a:endParaRPr b="0" lang="en-US" sz="2800" spc="-1" strike="noStrike">
              <a:solidFill>
                <a:srgbClr val="000000"/>
              </a:solidFill>
              <a:latin typeface="Calibri"/>
            </a:endParaRPr>
          </a:p>
          <a:p>
            <a:pPr marL="334440" indent="-3344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XTENSION OF LTS FACILITY FOR RETIRED EMPLOYEES – NOT BEYOND 6 MONTHS. SHOULD INFORM BEFORE RETIREMENT TO AVAIL THIS FACILITY</a:t>
            </a:r>
            <a:endParaRPr b="0" lang="en-US" sz="2800" spc="-1" strike="noStrike">
              <a:solidFill>
                <a:srgbClr val="0000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457200" y="274680"/>
            <a:ext cx="8229600" cy="639720"/>
          </a:xfrm>
          <a:prstGeom prst="rect">
            <a:avLst/>
          </a:prstGeom>
          <a:noFill/>
          <a:ln w="0">
            <a:noFill/>
          </a:ln>
        </p:spPr>
        <p:style>
          <a:lnRef idx="0"/>
          <a:fillRef idx="0"/>
          <a:effectRef idx="0"/>
          <a:fontRef idx="minor"/>
        </p:style>
        <p:txBody>
          <a:bodyPr lIns="90000" rIns="90000" tIns="46800" bIns="46800" anchor="ctr">
            <a:normAutofit fontScale="81000"/>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LTS CONTINUED</a:t>
            </a:r>
            <a:endParaRPr b="0" lang="en-US" sz="4400" spc="-1" strike="noStrike">
              <a:solidFill>
                <a:srgbClr val="000000"/>
              </a:solidFill>
              <a:latin typeface="Calibri"/>
            </a:endParaRPr>
          </a:p>
        </p:txBody>
      </p:sp>
      <p:sp>
        <p:nvSpPr>
          <p:cNvPr id="215" name="Text Box 2"/>
          <p:cNvSpPr/>
          <p:nvPr/>
        </p:nvSpPr>
        <p:spPr>
          <a:xfrm>
            <a:off x="457200" y="914400"/>
            <a:ext cx="8077320" cy="5638680"/>
          </a:xfrm>
          <a:prstGeom prst="rect">
            <a:avLst/>
          </a:prstGeom>
          <a:noFill/>
          <a:ln w="0">
            <a:noFill/>
          </a:ln>
        </p:spPr>
        <p:style>
          <a:lnRef idx="0"/>
          <a:fillRef idx="0"/>
          <a:effectRef idx="0"/>
          <a:fontRef idx="minor"/>
        </p:style>
        <p:txBody>
          <a:bodyPr lIns="90000" rIns="90000" tIns="46800" bIns="46800" anchor="t">
            <a:normAutofit/>
          </a:bodyPr>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OFFICERS WHO ARE ENTITLED TO TRAVEL BY AIR SHALL BE ENTITLED FOR REIMBURSEMENT OF FULL AIR FARE FOR 3000KMS(ECONOMY CLASS) OF SURFACE DISTANCE EACH WAY FOR ONE BLOCK SUBJECT TO THE CEILING OF TWICE THE ELIGIBLE CLASS STANDARD AIR FARE OF AIR INDIA FOR DELHI-TRIVANDRUM ROUTE.  THE  BENCHMARK FARE WOULD STAND REVISED AS &amp;WHEN AIR INDIA REVISES ITS FARE FOR THE SAID SECTOR</a:t>
            </a:r>
            <a:endParaRPr b="0" lang="en-US" sz="2000" spc="-1" strike="noStrike">
              <a:solidFill>
                <a:srgbClr val="000000"/>
              </a:solidFill>
              <a:latin typeface="Calibri"/>
            </a:endParaRPr>
          </a:p>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000" spc="-1" strike="noStrike">
                <a:solidFill>
                  <a:srgbClr val="000000"/>
                </a:solidFill>
                <a:latin typeface="Calibri"/>
                <a:ea typeface="Microsoft YaHei"/>
              </a:rPr>
              <a:t>DEPENDENCY LIMIT – RS.9000 + DR admissible thereon as per 7</a:t>
            </a:r>
            <a:r>
              <a:rPr b="0" lang="en-US" sz="2000" spc="-1" strike="noStrike" baseline="30000">
                <a:solidFill>
                  <a:srgbClr val="000000"/>
                </a:solidFill>
                <a:latin typeface="Calibri"/>
                <a:ea typeface="Microsoft YaHei"/>
              </a:rPr>
              <a:t>th</a:t>
            </a:r>
            <a:r>
              <a:rPr b="0" lang="en-US" sz="2000" spc="-1" strike="noStrike">
                <a:solidFill>
                  <a:srgbClr val="000000"/>
                </a:solidFill>
                <a:latin typeface="Calibri"/>
                <a:ea typeface="Microsoft YaHei"/>
              </a:rPr>
              <a:t> CPC (CENTRAL PAY COMMISSION).  </a:t>
            </a:r>
            <a:endParaRPr b="0" lang="en-US" sz="2000" spc="-1" strike="noStrike">
              <a:solidFill>
                <a:srgbClr val="000000"/>
              </a:solidFill>
              <a:latin typeface="Calibri"/>
            </a:endParaRPr>
          </a:p>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Tejas /Vande Bharat Express fares allowed to employees who are entitled to travel Rajdhani Express</a:t>
            </a:r>
            <a:endParaRPr b="0" lang="en-US" sz="2400" spc="-1" strike="noStrike">
              <a:solidFill>
                <a:srgbClr val="000000"/>
              </a:solidFill>
              <a:latin typeface="Calibri"/>
            </a:endParaRPr>
          </a:p>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400" spc="-1" strike="noStrike">
                <a:solidFill>
                  <a:srgbClr val="000000"/>
                </a:solidFill>
                <a:latin typeface="Calibri"/>
                <a:ea typeface="Microsoft YaHei"/>
              </a:rPr>
              <a:t>Special trains does not include luxury trains like Deccan Odessey, Maharaja’s Express, the Golden Chariot, Royal Rajasthan on wheels, Palace on wheels, Royal Orient Train, Heritage on wheels, Fairy Queen Express, etc</a:t>
            </a:r>
            <a:endParaRPr b="0" lang="en-US" sz="24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1TRANSFER BENEFITS</a:t>
            </a:r>
            <a:endParaRPr b="0" lang="en-US" sz="4400" spc="-1" strike="noStrike">
              <a:solidFill>
                <a:srgbClr val="000000"/>
              </a:solidFill>
              <a:latin typeface="Calibri"/>
            </a:endParaRPr>
          </a:p>
        </p:txBody>
      </p:sp>
      <p:sp>
        <p:nvSpPr>
          <p:cNvPr id="217" name="Text Box 2"/>
          <p:cNvSpPr/>
          <p:nvPr/>
        </p:nvSpPr>
        <p:spPr>
          <a:xfrm>
            <a:off x="228600" y="1600200"/>
            <a:ext cx="86868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EMPLOYEE+SPOUSE+CHILDREN+PARENTS+DEPENDENT BROTHERS,SISTERS ALLOWED TRAVELLING ALLOWANCE</a:t>
            </a:r>
            <a:endParaRPr b="0" lang="en-US" sz="2800" spc="-1" strike="noStrike">
              <a:solidFill>
                <a:srgbClr val="000000"/>
              </a:solidFill>
              <a:latin typeface="Calibri"/>
            </a:endParaRPr>
          </a:p>
          <a:p>
            <a:pPr marL="338040" indent="-338040" algn="just">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ECOND TRIP TO SHIFT FAMILY WITHIN SIX MONTHS FROM  THE DATE OF RELIEF FROM THE PLACE OF TRANSFER  OR DATE OF COMMENCEMENT OF NEXT ACADEMIC YEAR WHICHEVER IS LESS</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JOINING TIME ONE DAY FOR LOCAL(INCL.SAT&amp;SUN)</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SIX DAYS FOR OUTSTATION+JOURNEY TIME</a:t>
            </a:r>
            <a:endParaRPr b="0" lang="en-US" sz="28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2 TRANSFER BENEFITS</a:t>
            </a:r>
            <a:endParaRPr b="0" lang="en-US" sz="4400" spc="-1" strike="noStrike">
              <a:solidFill>
                <a:srgbClr val="000000"/>
              </a:solidFill>
              <a:latin typeface="Calibri"/>
            </a:endParaRPr>
          </a:p>
        </p:txBody>
      </p:sp>
      <p:sp>
        <p:nvSpPr>
          <p:cNvPr id="219" name="Text Box 2"/>
          <p:cNvSpPr/>
          <p:nvPr/>
        </p:nvSpPr>
        <p:spPr>
          <a:xfrm>
            <a:off x="457200" y="1600200"/>
            <a:ext cx="8458200" cy="480060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FER GRANT ONE MONTH BASIC PLUS FPA</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ALLOWED WHETHER FAMILY SHIFTED OR NOT</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30 DAYS HALTING ALLOWANCE IN LIEU OF HOUSING</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BAGGAGE ALLOWANCE/MID ACADEMIC ALLOWANCE FOR OFFICER</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PACKING CHARGES FORWARDING CHARGES </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NO INCIDENTAL/NO PET ANIMALS/LOCAL CONVEYANCE ALLOWED.</a:t>
            </a:r>
            <a:endParaRPr b="0" lang="en-US" sz="2800" spc="-1" strike="noStrike">
              <a:solidFill>
                <a:srgbClr val="000000"/>
              </a:solidFill>
              <a:latin typeface="Calibri"/>
            </a:endParaRPr>
          </a:p>
          <a:p>
            <a:pPr marL="338040" indent="-338040">
              <a:spcBef>
                <a:spcPts val="700"/>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2800" spc="-1" strike="noStrike">
                <a:solidFill>
                  <a:srgbClr val="000000"/>
                </a:solidFill>
                <a:latin typeface="Calibri"/>
                <a:ea typeface="Microsoft YaHei"/>
              </a:rPr>
              <a:t>TRANSPORT OF VEHICLE ALLOWED</a:t>
            </a:r>
            <a:endParaRPr b="0" lang="en-US" sz="28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4400" spc="-1" strike="noStrike">
                <a:solidFill>
                  <a:srgbClr val="000000"/>
                </a:solidFill>
                <a:latin typeface="Calibri"/>
                <a:ea typeface="Microsoft YaHei"/>
              </a:rPr>
              <a:t>14.3 TRANSFER BENEFITS</a:t>
            </a:r>
            <a:endParaRPr b="0" lang="en-US" sz="4400" spc="-1" strike="noStrike">
              <a:solidFill>
                <a:srgbClr val="000000"/>
              </a:solidFill>
              <a:latin typeface="Calibri"/>
            </a:endParaRPr>
          </a:p>
        </p:txBody>
      </p:sp>
      <p:sp>
        <p:nvSpPr>
          <p:cNvPr id="22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ON RETIREMENT/DEATH</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RANSFER GRANT/PACKING  </a:t>
            </a: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CHARGES/FORWARDING CHARGES PAID </a:t>
            </a:r>
            <a:endParaRPr b="0" lang="en-US" sz="3200" spc="-1" strike="noStrike">
              <a:solidFill>
                <a:srgbClr val="000000"/>
              </a:solidFill>
              <a:latin typeface="Calibri"/>
            </a:endParaRPr>
          </a:p>
          <a:p>
            <a:pPr marL="338040" indent="-338040">
              <a:spcBef>
                <a:spcPts val="799"/>
              </a:spcBef>
              <a:buClr>
                <a:srgbClr val="000000"/>
              </a:buClr>
              <a:buFont typeface="Arial"/>
              <a:buChar char="•"/>
              <a:tabLst>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endParaRPr b="0" lang="en-US" sz="3200" spc="-1" strike="noStrike">
              <a:solidFill>
                <a:srgbClr val="000000"/>
              </a:solidFill>
              <a:latin typeface="Calibri"/>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10058400"/>
              </a:tabLst>
            </a:pPr>
            <a:r>
              <a:rPr b="0" lang="en-US" sz="3200" spc="-1" strike="noStrike">
                <a:solidFill>
                  <a:srgbClr val="000000"/>
                </a:solidFill>
                <a:latin typeface="Calibri"/>
                <a:ea typeface="Microsoft YaHei"/>
              </a:rPr>
              <a:t> </a:t>
            </a:r>
            <a:r>
              <a:rPr b="0" lang="en-US" sz="3200" spc="-1" strike="noStrike">
                <a:solidFill>
                  <a:srgbClr val="000000"/>
                </a:solidFill>
                <a:latin typeface="Calibri"/>
                <a:ea typeface="Microsoft YaHei"/>
              </a:rPr>
              <a:t>TO BE CLAIMED WITHIN 6 MONTHS,NO TRANSFER GRANT FOR LOCAL SHIFTING</a:t>
            </a: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228240" y="152280"/>
            <a:ext cx="845820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LEEPING WHILE ON DU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SSION OF ANY ACT WHICH AMOUNTS TO A CRIMINAL ACT INVOLVING MORAL TURPITUDE (CONDUCT THAT IS CONSIDERED CONTRARY TO COMMUNITY STANDARDS OF JUSTICE, HONESTY OR GOOD MORALS EG., FORGERY, ROBBERY, ETC)</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ENCE FROM THE EMPLOYEE’S APPOINTED PLACE OF WORK WITHOUT PERMISSION OR SUFFICIENT CAUS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MOKING WITHIN THE PREMISES OF THE ESTABLISHMENT WHERE IT IS PROHIBIT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RCHASING PROPERTIES, MACHINERIES, STORES, ETC FROM OR SELLING PROPERTIES, MACHINERIES, STORES, ETC TO THE COMPANY WITHOUT EXPRESS PERMISSION IN WRITING FROM THE COMPETENT AUTHORIT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ISSION OF ANY ACT SUBVERSIVE OF DISCIPLINE OR OF GOOD BEHAVIO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Content Placeholder 2"/>
          <p:cNvSpPr/>
          <p:nvPr/>
        </p:nvSpPr>
        <p:spPr>
          <a:xfrm>
            <a:off x="152280" y="228600"/>
            <a:ext cx="8763120" cy="6324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oa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Actual expenses subject to 120 quintals by goods trai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Actual expenses subject to 90 quintals by goods trai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ransportation of goods by Rail</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VI and VII – Full 4 wheeler wagon or 60 quintals by goods train or 1 double contai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V and V - Full 4 wheeler wagon or 60 quintals by goods train or 1 single contain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cale I to III – 40 quintals by goods tra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ncilliary expenses –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acking charges / loading and unloading expenses and incidental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16000, Scale I to III – Rs.12000 and other than Class I Officers – Rs.8000</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Content Placeholder 2"/>
          <p:cNvSpPr/>
          <p:nvPr/>
        </p:nvSpPr>
        <p:spPr>
          <a:xfrm>
            <a:off x="457200" y="304920"/>
            <a:ext cx="8229600" cy="5821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imbursement of local shifting expens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Limit – Maxium 60 Km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V and above – Rs.20000</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Scale I to III – Rs.15000</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Other than Officers – Rs.10000</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ifting within the same compound – 25% of the above limi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59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NS AND ADVANCES</a:t>
            </a:r>
            <a:endParaRPr b="0" lang="en-US" sz="4400" spc="-1" strike="noStrike">
              <a:solidFill>
                <a:srgbClr val="000000"/>
              </a:solidFill>
              <a:latin typeface="Calibri"/>
            </a:endParaRPr>
          </a:p>
        </p:txBody>
      </p:sp>
      <p:sp>
        <p:nvSpPr>
          <p:cNvPr id="225"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hicle Loan – </a:t>
            </a:r>
            <a:endParaRPr b="0" lang="en-US" sz="32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igibility – Minimum 3 years service, once in 7 years not more than 3 such loan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ficers on Administrative side – Rs.75000 for two wheeler</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III &amp; IV including DO (A) – Rs.75000 for two wheeler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e of interest – 5%</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ayment – 60 equal installment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 wheeler loan for Scale I &amp; II – Rs.2.5 lakhs – Upto Rs.1 lakh – 5% interest and 7.5% for balance amoun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Scale III &amp; IV – Rs.4.5 lakh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ayment – 120 equal installment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using Loan</a:t>
            </a:r>
            <a:endParaRPr b="0" lang="en-US" sz="4400" spc="-1" strike="noStrike">
              <a:solidFill>
                <a:srgbClr val="000000"/>
              </a:solidFill>
              <a:latin typeface="Calibri"/>
            </a:endParaRPr>
          </a:p>
        </p:txBody>
      </p:sp>
      <p:sp>
        <p:nvSpPr>
          <p:cNvPr id="227" name=""/>
          <p:cNvSpPr txBox="1"/>
          <p:nvPr/>
        </p:nvSpPr>
        <p:spPr>
          <a:xfrm>
            <a:off x="457200" y="762120"/>
            <a:ext cx="8229600" cy="58672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28" name="Picture 2" descr=""/>
          <p:cNvPicPr/>
          <p:nvPr/>
        </p:nvPicPr>
        <p:blipFill>
          <a:blip r:embed="rId1"/>
          <a:stretch/>
        </p:blipFill>
        <p:spPr>
          <a:xfrm>
            <a:off x="152280" y="701640"/>
            <a:ext cx="8839440" cy="592776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151920" y="228600"/>
            <a:ext cx="8534520" cy="64008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using loan on 3 occasions – first, second and second loan second tim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est – 5% for scheme loan and 7.5% for supplementary loan.  If not self occupied – additional 2.5% charged on scheme loa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um 3 years servic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ayment – Equal monthly installments or maximum 30 years of service whichever is les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employee has less than 15 years of service, he has the option of paying only the interest portion and principal amount will be deducted from his terminal du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eclosure is permitt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m Insurance policy / Mortgage redemption policy included as collateral secur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Housing Loan – Second Loan</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cond Loan under Housing Loan Scheme for renovation or transfer of existing loan or acquiring second property subject 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a) not more than twice during the entire servi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b) applicable to both the properti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uantum – Employees current cadre eligibility for scheme loan minus scheme loan already sanctioned and current cadre eligibility of supplementary loan minus supplementary loan already sanctioned but not exceeding the actual cos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cheme + Supp loan sanctioned earlier + current second loan to be sanctioned shall not exceed current cadre eligibil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752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Wherever employees availed education loan, the eligible amount of housing loan stands reduced to the extent of outstanding balance of the education loan.</a:t>
            </a:r>
            <a:br>
              <a:rPr sz="2000"/>
            </a:br>
            <a:br>
              <a:rPr sz="2000"/>
            </a:br>
            <a:r>
              <a:rPr b="0" lang="en-IN" sz="2000" spc="-1" strike="noStrike">
                <a:solidFill>
                  <a:srgbClr val="000000"/>
                </a:solidFill>
                <a:latin typeface="Calibri"/>
              </a:rPr>
              <a:t>Eligibility shall further subject to deduction towards housing loan shall not exceed 45% of the monthly gross salary</a:t>
            </a:r>
            <a:br>
              <a:rPr sz="2000"/>
            </a:br>
            <a:br>
              <a:rPr sz="1800"/>
            </a:br>
            <a:endParaRPr b="0" lang="en-US" sz="2000" spc="-1" strike="noStrike">
              <a:solidFill>
                <a:srgbClr val="000000"/>
              </a:solidFill>
              <a:latin typeface="Calibri"/>
            </a:endParaRPr>
          </a:p>
        </p:txBody>
      </p:sp>
      <p:pic>
        <p:nvPicPr>
          <p:cNvPr id="233" name="Picture 2" descr=""/>
          <p:cNvPicPr/>
          <p:nvPr/>
        </p:nvPicPr>
        <p:blipFill>
          <a:blip r:embed="rId1"/>
          <a:stretch/>
        </p:blipFill>
        <p:spPr>
          <a:xfrm>
            <a:off x="457200" y="2849400"/>
            <a:ext cx="8229600" cy="38563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228240" y="228600"/>
            <a:ext cx="8458200" cy="632448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stival advance –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s.50000 or one month gross salary for Officers whichever is les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s.40000 or one month gross salary for Class III / IV employee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s.20000 or one month basic + DA (on pro-rata basis) for PTE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nce in a calendar year</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0 equal installment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tural Calamity advance –</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mage in the station of posting or in home town</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s.50000 – 25 equal installments</a:t>
            </a: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52280"/>
            <a:ext cx="8229600" cy="655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idential Accommodation (wef  01/04/2023)</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6" name="Picture 1" descr=""/>
          <p:cNvPicPr/>
          <p:nvPr/>
        </p:nvPicPr>
        <p:blipFill>
          <a:blip r:embed="rId1"/>
          <a:stretch/>
        </p:blipFill>
        <p:spPr>
          <a:xfrm>
            <a:off x="609480" y="846000"/>
            <a:ext cx="7772400" cy="47926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Content Placeholder 3" descr=""/>
          <p:cNvPicPr/>
          <p:nvPr/>
        </p:nvPicPr>
        <p:blipFill>
          <a:blip r:embed="rId1"/>
          <a:stretch/>
        </p:blipFill>
        <p:spPr>
          <a:xfrm>
            <a:off x="457200" y="304920"/>
            <a:ext cx="8229600" cy="2589120"/>
          </a:xfrm>
          <a:prstGeom prst="rect">
            <a:avLst/>
          </a:prstGeom>
          <a:ln w="0">
            <a:noFill/>
          </a:ln>
        </p:spPr>
      </p:pic>
      <p:pic>
        <p:nvPicPr>
          <p:cNvPr id="238" name="Picture 4" descr=""/>
          <p:cNvPicPr/>
          <p:nvPr/>
        </p:nvPicPr>
        <p:blipFill>
          <a:blip r:embed="rId2"/>
          <a:stretch/>
        </p:blipFill>
        <p:spPr>
          <a:xfrm>
            <a:off x="457200" y="3363840"/>
            <a:ext cx="8458200" cy="273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3T10:52:43Z</dcterms:created>
  <dc:creator>Bhaskar</dc:creator>
  <dc:description/>
  <dc:language>en-US</dc:language>
  <cp:lastModifiedBy>Bha27422</cp:lastModifiedBy>
  <dcterms:modified xsi:type="dcterms:W3CDTF">2023-12-01T15:32:58Z</dcterms:modified>
  <cp:revision>410</cp:revision>
  <dc:subject/>
  <dc:title>PowerPoint Presentation</dc:title>
</cp:coreProperties>
</file>